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3FAE88-D25A-477B-9A2E-149D4BE7F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A5226E-84C1-4D11-B016-2938A685F8C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5D6-EEEE-4C85-BC6A-6C7F36CE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0C2-D694-49A9-8BA7-A0AD456C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835-2A98-42DC-994B-5533B571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5EC-5FE0-460C-8672-653A75FB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58D1-6BAB-40C7-9335-C3BBFBAB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1C71-26C9-4520-B6F1-084A3DF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DFA9-B01B-4F2B-B2D5-4569BA47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7CC2-BD01-4B1E-9B0A-592FBE99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6972-594D-419E-A364-FDF850A8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B13C-C9F6-4FB7-8D9E-ACAD33C0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90A2-FE4B-44EA-839D-BB14256D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4D7-CFDB-4DC2-A64E-80A8F823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8AD4-7AAF-4075-A3E2-D3F7CDF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3289-5EB8-48FA-8192-66176DB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6A76-AE7C-4BE7-8135-B899C78C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E857-6FF0-4F84-98B9-E8C6FBDA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0115-9FF8-4819-88A4-E31D56D0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FB0-C866-4B6D-8DC5-C42D549E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1B9-413B-4550-89F6-084F34F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045-6CBF-4272-B61D-CD569B38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84F-A49B-435B-A53F-8F9A846D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16E-C6C4-4188-AE5B-5F2E98A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EC2-24B6-4F34-967B-961F2AF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DA4-E2AA-4401-89F7-F8C4860D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190c"/>
            </a:gs>
            <a:gs pos="100000">
              <a:srgbClr val="8c747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8dcfe9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4BFDE5-EA7F-4186-8407-26A2225F15E4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3891a7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B965A2-88B7-418B-A395-6AEAF60BEBBF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40004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2120" y="0"/>
            <a:ext cx="9078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Les Habitats Particuli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dans le Mo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105520" y="3200400"/>
            <a:ext cx="4876560" cy="191988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9b4200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Nin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Teod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harunyahya.org/duvarkagidi/1024x768/races.jpg"/>
          <p:cNvPicPr/>
          <p:nvPr/>
        </p:nvPicPr>
        <p:blipFill>
          <a:blip r:embed="rId1"/>
          <a:stretch/>
        </p:blipFill>
        <p:spPr>
          <a:xfrm>
            <a:off x="304920" y="2286000"/>
            <a:ext cx="6095520" cy="4571640"/>
          </a:xfrm>
          <a:prstGeom prst="rect">
            <a:avLst/>
          </a:prstGeom>
          <a:ln w="0">
            <a:noFill/>
          </a:ln>
          <a:effectLst>
            <a:glow rad="228600">
              <a:srgbClr val="fed46c">
                <a:alpha val="40000"/>
              </a:srgbClr>
            </a:glow>
            <a:reflection algn="bl" blurRad="12700" dir="5400000" dist="5000" endPos="30000" rotWithShape="0" stA="30000" sy="-100000"/>
            <a:softEdge rad="12708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300"/>
            </a:gs>
            <a:gs pos="100000">
              <a:srgbClr val="835e01">
                <a:alpha val="90196"/>
              </a:srgbClr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 rot="20825400">
            <a:off x="348840" y="1321200"/>
            <a:ext cx="8144640" cy="37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22225">
            <a:solidFill>
              <a:srgbClr val="c0dae4"/>
            </a:solidFill>
            <a:prstDash val="sysDash"/>
            <a:round/>
          </a:ln>
          <a:effectLst>
            <a:glow rad="228600">
              <a:srgbClr val="d9d9d9">
                <a:alpha val="40000"/>
              </a:srgbClr>
            </a:glow>
            <a:innerShdw blurRad="63500" dir="16200000" dist="50800">
              <a:srgbClr val="000000">
                <a:alpha val="50000"/>
              </a:srgbClr>
            </a:innerShdw>
          </a:effectLst>
          <a:scene3d>
            <a:camera prst="orthographicFront"/>
            <a:lightRig dir="tl" rig="soft">
              <a:rot lat="0" lon="0" rev="0"/>
            </a:lightRig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BIENTÔ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36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Dans cette image nous voyons une tente qui s’appelle </a:t>
            </a:r>
            <a:r>
              <a:rPr b="1" lang="en-US" sz="2400" spc="-1" strike="noStrike">
                <a:solidFill>
                  <a:srgbClr val="ff3737"/>
                </a:solidFill>
                <a:latin typeface="Arial"/>
              </a:rPr>
              <a:t>“Gers” 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qui se trouve en Mongolie.Elle est construit de bois et elle est couverte d’une toile.A l’interior vivent pasteures mongols et ses familles.Ces tentes se trouve en Mongolie de plusieures ann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www.shelterpub.com/_wonderful_houses/_718/p02-03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440" cy="4899240"/>
          </a:xfrm>
          <a:prstGeom prst="rect">
            <a:avLst/>
          </a:prstGeom>
          <a:ln w="0">
            <a:noFill/>
          </a:ln>
          <a:effectLst>
            <a:glow rad="101520">
              <a:srgbClr val="0070c0">
                <a:alpha val="60000"/>
              </a:srgbClr>
            </a:glow>
            <a:softEdge rad="112680"/>
          </a:effectLst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shelterpub.com/_wonderful_houses/_718/p04-05.jpg"/>
          <p:cNvPicPr/>
          <p:nvPr/>
        </p:nvPicPr>
        <p:blipFill>
          <a:blip r:embed="rId1"/>
          <a:stretch/>
        </p:blipFill>
        <p:spPr>
          <a:xfrm>
            <a:off x="0" y="228600"/>
            <a:ext cx="9143640" cy="64004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792432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5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s maisons se trouvent en Indonesie et ils sont faites de bambou et de l’herbe.A l’interior vivent les animaux au rez-de-chaussee et dessus du personn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www.shelterpub.com/_wonderful_houses/_718/p10-11.jpg"/>
          <p:cNvPicPr/>
          <p:nvPr/>
        </p:nvPicPr>
        <p:blipFill>
          <a:blip r:embed="rId1"/>
          <a:stretch/>
        </p:blipFill>
        <p:spPr>
          <a:xfrm>
            <a:off x="152280" y="1676520"/>
            <a:ext cx="8762760" cy="518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cover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cture 2"/>
          <p:cNvSpPr/>
          <p:nvPr/>
        </p:nvSpPr>
        <p:spPr>
          <a:xfrm>
            <a:off x="1600200" y="0"/>
            <a:ext cx="609552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7467120" cy="10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En Tunisie se trouvent ces grottes qui abritent beaucoup de jens .Ils entrent a la maison par un tunnel.Les chambres  sunt situees autour de la “salle” princip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://www.shelterpub.com/_wonderful_houses/_718/p22-23.jpg"/>
          <p:cNvPicPr/>
          <p:nvPr/>
        </p:nvPicPr>
        <p:blipFill>
          <a:blip r:embed="rId1"/>
          <a:stretch/>
        </p:blipFill>
        <p:spPr>
          <a:xfrm>
            <a:off x="228600" y="1600200"/>
            <a:ext cx="8534160" cy="52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0" y="304920"/>
            <a:ext cx="9143640" cy="63241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16256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45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tte maison se trouve en Afrique et elle est construite de terre et d’herbe seche sur deux etages.A l’interieur vivent des gens et des animau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http://www.shelterpub.com/_wonderful_houses/_718/p30-31.jpg"/>
          <p:cNvPicPr/>
          <p:nvPr/>
        </p:nvPicPr>
        <p:blipFill>
          <a:blip r:embed="rId1"/>
          <a:stretch/>
        </p:blipFill>
        <p:spPr>
          <a:xfrm>
            <a:off x="304920" y="1946520"/>
            <a:ext cx="8534160" cy="491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0" y="304920"/>
            <a:ext cx="9143640" cy="6019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01</TotalTime>
  <Application>LibreOffice/7.4.7.2$Linux_X86_64 LibreOffice_project/40$Build-2</Application>
  <AppVersion>15.0000</AppVersion>
  <Words>1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1-12-11T16:35:45Z</dcterms:modified>
  <cp:revision>2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