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3BCB-FC08-4016-B4F9-B9DD9328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6A89-5491-4C8C-99FE-AE1748BB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1756-9C35-48BF-82B5-38200DD7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EB1-9C33-4A91-9CDC-4123AFDD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7410-408F-409D-8221-EA5661D9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49D0-A62B-4724-BEC7-EE26E9DC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6565-92D7-4856-9932-3E4F2FE7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1313-3652-4DB7-BA0B-70473156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6E01-FD84-4D10-866A-441CDCA2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CDDF-6C72-4AAF-80CF-FBEAADEE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EB1B-9D87-4DC0-A855-AA3A8465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239F-8302-4465-8B54-AF489FAA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DEAB-E4D0-4371-B17D-B2ADD249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306C-43AC-4A78-BC29-8D564AF6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9CA3-3D57-45BD-BFD6-56DB4EF9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45C4-EB0F-45E4-A04C-511683BA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F0C0-B77A-4783-AE9C-B25C7C35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BA2467-DB5B-4585-A5BC-5F779372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58CB3-A5B0-41F8-80C9-B3397E64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F25AB1-9D29-4B71-B437-F9A5030C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9C0A0E-8D18-4770-9FE0-06E43740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C51A67-0790-4705-9A92-ECE4C8BD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C862-B43B-444F-913B-D562866D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7E748-DA1A-462D-A2E6-102F50CD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319190-05DC-4CC1-ADD2-A200C96F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DB781-7ADC-4C58-8DA6-AEFE46BA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9224E-E866-4869-A448-EE010EF2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60C37E-9838-4339-8BAE-25020D50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84D12-2673-48F6-9FA2-2849AF7B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2C4F91-D0D8-46C2-80BE-4C3DD3AC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B30186-FF09-47D6-8940-A47DAEC6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7A5C4D-F234-46CF-8907-894E0ED5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8184C2-B2BD-435B-B24B-54D3C081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CF30-1151-406F-A1CA-F872C3C7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8E930C-EE18-4B9D-862C-7F2F120E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EC6433-1C8D-4B23-AC78-C9AEE5A0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E8BDB9-E277-4BB5-A1BC-A2C9108B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57C0E3-C02F-4F5C-90ED-524F8995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04A5AA-1136-408B-875B-1ED1BDCB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BDC0B0-835E-479E-BE75-07DAF1B7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3FD53E-D8B1-489D-B708-1AF6049D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5C1889-DF94-4783-BDD3-75510175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D893E2-D287-4B25-8633-2C84F433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B904C7-4EF2-4640-B6BB-5D6CB938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720E-BE9F-4D45-9665-D2C7250B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CCFC60-A786-49E1-8BB7-6EB8DAD0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EF28B3-705F-44F0-8538-ECFF82EF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938C2F-C203-4953-A65D-B55C87FE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88FD7B-DEFC-410C-8C3D-17A5742C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39C3C7-D84E-4800-9779-79A8BFF2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58CF1B-035F-42D6-BD2A-94D0C524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D50F78-5B10-4C73-B41C-1FA44ACF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768CBC-3D4C-4F1A-A0E7-0B6DAC6E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12F484-DD89-4009-9EFF-CA9798AC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CDA923-379C-41F8-925C-765BFD2A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3907-FF94-4A95-B5D5-048C6B57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9B4CF4-5B10-4544-A973-5A9195EE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390DA-8094-43DB-AF40-58583AB5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4F469-A8D5-49BF-9FFA-77400B71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962C3-60D6-491A-B8F6-FE330AEC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5CFC1-653F-4684-9166-2741070A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C8B4A-8B1C-4360-A39F-BDDA9DC8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60CB5-9489-4B32-8008-24403720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0210D-33A7-495F-AD4C-BE83D2E2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A8011-2FD8-4962-A4BE-A0D80C8F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31878-EDEE-4226-830C-09A18898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7331-43A7-4DDF-ACA5-72918DCF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50481-CFD6-451C-86E8-96E2A0C9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9C282-62DC-4354-8E78-C5C8D2AD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89D87-FCCC-4243-8BC8-2D40EBF9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FA8B80-DDB2-469C-90DB-46C6581C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889B7B-E3BF-49CC-AFA0-76EB6BB1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A033D4-46F6-4AC4-8089-ECA2584E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331E18-55AE-441F-BC37-10E04A19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D38AFB-767C-48FF-99D3-7C05EC95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06D066-E5C8-495E-9CAD-318F0E63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164D0D-AEED-49CF-9F68-AF70F099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261D-209E-437B-9269-DC8AE5BD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7C4F6C-873A-4D64-BB01-37399D13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0A019F-4C97-401A-BDA9-4C370AED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8501F7-C20E-457B-846E-54AA39A6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6A6115-3FD1-4464-9C88-CD75287D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E42E99-92BB-41BB-BF0F-BEB176CB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6DB7A-50ED-43DE-9CC9-85BCDA0B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93604-09C5-4EC0-B0E9-5A779B56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95D7E-2D57-4EC4-BA2C-CEDAC9B8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FF444-10DF-46ED-A23F-38355B6A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C144E-D79C-4937-B402-E430074F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18B4-669B-4026-968F-29EA191B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1A53B-047E-4B2F-B81E-6B4E49E9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51238-67F6-4EB4-A6F7-A258E3BC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04C1D-621B-4BB9-9408-D613B16E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F92BC-007B-4DF5-9F00-78219882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6F182-B471-4120-8B01-D9166573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C5FC5-7B1E-4C34-8228-4E9E1B90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58560-4B1E-4DF6-9A8A-4A9168BB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F29F-18B6-443C-AEED-9A0F79DDD0D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eec9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beec9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beec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9A3D-0CC1-4FD2-84A8-6300C5C01E9B}" type="slidenum">
              <a:rPr b="1" lang="en-US" sz="1400" spc="-1" strike="noStrike">
                <a:solidFill>
                  <a:srgbClr val="fbeec9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6AD1-EE9E-4996-B329-D3B43F6409CB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FDB5-051F-4682-8AA0-7568114F28C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F7F7-B288-4BE3-9CE9-04981DEDA91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4E21-7173-47B8-8361-C09E4E757AF8}" type="slidenum">
              <a:rPr b="1" lang="en-US" sz="1400" spc="-1" strike="noStrike">
                <a:solidFill>
                  <a:srgbClr val="4e3b30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FDED-6925-4634-8188-1097F7583097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4126-2337-4E29-AFAB-95F0D346DE3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3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9360">
            <a:solidFill>
              <a:srgbClr val="7c4b3b"/>
            </a:solidFill>
            <a:miter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c4c2c"/>
                </a:solidFill>
                <a:latin typeface="Tempus Sans ITC"/>
              </a:rPr>
              <a:t>    </a:t>
            </a:r>
            <a:r>
              <a:rPr b="1" lang="en-US" sz="3600" spc="-1" strike="noStrike">
                <a:solidFill>
                  <a:srgbClr val="6c4c2c"/>
                </a:solidFill>
                <a:latin typeface="Tempus Sans ITC"/>
              </a:rPr>
              <a:t>Ninu Teodora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1" name="Rectangle 3" descr=""/>
          <p:cNvPicPr/>
          <p:nvPr/>
        </p:nvPicPr>
        <p:blipFill>
          <a:blip r:embed="rId1"/>
          <a:stretch/>
        </p:blipFill>
        <p:spPr>
          <a:xfrm>
            <a:off x="-311040" y="262080"/>
            <a:ext cx="9156600" cy="3736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http://www.google.ro/url?source=imglanding&amp;ct=img&amp;q=http://www.cerceteaza.com/wp-content/uploads/2010/08/Primul-bec-electric.jpg&amp;sa=X&amp;ei=FGSmT-WCLZOi8gSpwNTNAw&amp;ved=0CAoQ8wc&amp;usg=AFQjCNFG-o2DLkd0Ma3dyXfV68So495miA"/>
          <p:cNvPicPr/>
          <p:nvPr/>
        </p:nvPicPr>
        <p:blipFill>
          <a:blip r:embed="rId2"/>
          <a:stretch/>
        </p:blipFill>
        <p:spPr>
          <a:xfrm>
            <a:off x="-55440" y="3090960"/>
            <a:ext cx="3139920" cy="27432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http://www.google.ro/url?source=imglanding&amp;ct=img&amp;q=http://www.ghimpele.ro/wp-content/uploads/2012/05/vaccin-antirabic-ghimpele-630x418.jpg&amp;sa=X&amp;ei=ZmSmT6_MLYf68gTo7pHPAw&amp;ved=0CAkQ8wc&amp;usg=AFQjCNHXWHu04DEg8DETI1RykhnnMZrCBg"/>
          <p:cNvPicPr/>
          <p:nvPr/>
        </p:nvPicPr>
        <p:blipFill>
          <a:blip r:embed="rId3"/>
          <a:stretch/>
        </p:blipFill>
        <p:spPr>
          <a:xfrm>
            <a:off x="5784840" y="3425760"/>
            <a:ext cx="2975040" cy="23846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http://www.google.ro/url?source=imglanding&amp;ct=img&amp;q=http://www.christianlouboutinshoeonline.com/images/36shoes1/clsandals28.jpg&amp;sa=X&amp;ei=HWWmT_moNYP69QT4-fDZAw&amp;ved=0CAoQ8wc&amp;usg=AFQjCNEVR6NUpwaSDgWGtVSOZPTYnBKt4Q"/>
          <p:cNvPicPr/>
          <p:nvPr/>
        </p:nvPicPr>
        <p:blipFill>
          <a:blip r:embed="rId4"/>
          <a:stretch/>
        </p:blipFill>
        <p:spPr>
          <a:xfrm>
            <a:off x="6669000" y="55440"/>
            <a:ext cx="2517840" cy="25225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-55440" y="-23760"/>
            <a:ext cx="9254880" cy="1407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495680" y="1523520"/>
            <a:ext cx="4648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7" name="Picture 2" descr="http://www.google.ro/url?source=imglanding&amp;ct=img&amp;q=http://www.my-lampes.com/blog-lampe/wp-content/uploads/2012/04/thomas-edison-lampe-incandescence.jpg&amp;sa=X&amp;ei=63SmT_6GLYqs8ASz7OCgAw&amp;ved=0CAkQ8wc4EQ&amp;usg=AFQjCNEOvn6cqK9TDiE1hYbLEsFYPJmhFw"/>
          <p:cNvPicPr/>
          <p:nvPr/>
        </p:nvPicPr>
        <p:blipFill>
          <a:blip r:embed="rId2"/>
          <a:stretch/>
        </p:blipFill>
        <p:spPr>
          <a:xfrm>
            <a:off x="0" y="1523880"/>
            <a:ext cx="4533840" cy="2667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58" name="Picture 4" descr="http://www.google.ro/url?source=imglanding&amp;ct=img&amp;q=http://www.larousse.fr/encyclopedie/data/images/1002844-Thomas_Edison.jpg&amp;sa=X&amp;ei=LHWmT9wXhbb1BMyUuMID&amp;ved=0CAkQ8wc&amp;usg=AFQjCNHFAPCYgzu7rDn-0an6zCbPQWF_WQ"/>
          <p:cNvPicPr/>
          <p:nvPr/>
        </p:nvPicPr>
        <p:blipFill>
          <a:blip r:embed="rId3"/>
          <a:stretch/>
        </p:blipFill>
        <p:spPr>
          <a:xfrm>
            <a:off x="0" y="3962520"/>
            <a:ext cx="4495680" cy="2895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59" name="TextBox 5"/>
          <p:cNvSpPr/>
          <p:nvPr/>
        </p:nvSpPr>
        <p:spPr>
          <a:xfrm>
            <a:off x="4952880" y="1523880"/>
            <a:ext cx="3733920" cy="5214600"/>
          </a:xfrm>
          <a:prstGeom prst="rect">
            <a:avLst/>
          </a:prstGeom>
          <a:solidFill>
            <a:srgbClr val="e3cabd"/>
          </a:solidFill>
          <a:ln w="10080">
            <a:solidFill>
              <a:srgbClr val="c1752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egoe UI"/>
                <a:ea typeface="Segoe UI"/>
              </a:rPr>
              <a:t>    </a:t>
            </a:r>
            <a:r>
              <a:rPr b="1" lang="fr-FR" sz="2400" spc="-1" strike="noStrike">
                <a:solidFill>
                  <a:srgbClr val="000000"/>
                </a:solidFill>
                <a:latin typeface="Segoe UI"/>
                <a:ea typeface="Segoe UI"/>
              </a:rPr>
              <a:t>Le 22 Octobre 1879, un inventeur  américain  qui s’appele Thomas Edi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Segoe UI"/>
                <a:ea typeface="Segoe UI"/>
              </a:rPr>
              <a:t> </a:t>
            </a:r>
            <a:r>
              <a:rPr b="1" lang="fr-FR" sz="2400" spc="-1" strike="noStrike">
                <a:solidFill>
                  <a:srgbClr val="000000"/>
                </a:solidFill>
                <a:latin typeface="Segoe UI"/>
                <a:ea typeface="Segoe UI"/>
              </a:rPr>
              <a:t>a decouvert l'éclairage électrique.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Segoe UI"/>
                <a:ea typeface="Segoe UI"/>
              </a:rPr>
              <a:t>    La première lampe à incandescence dure pendant quarante heures et  cette lampe represente le fin de l’éclairage avec l’huile ou avec le ga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solidFill>
            <a:srgbClr val="e3cabd"/>
          </a:solidFill>
          <a:ln w="10080">
            <a:solidFill>
              <a:srgbClr val="c1752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3b14"/>
                </a:solidFill>
                <a:latin typeface="Kristen ITC"/>
              </a:rPr>
              <a:t>Le vaccin antirabique</a:t>
            </a:r>
            <a:endParaRPr b="0" lang="en-US" sz="40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solidFill>
            <a:srgbClr val="a5644e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cd5"/>
                </a:solidFill>
                <a:latin typeface="Century"/>
              </a:rPr>
              <a:t>    </a:t>
            </a:r>
            <a:r>
              <a:rPr b="1" lang="en-US" sz="2800" spc="-1" strike="noStrike">
                <a:solidFill>
                  <a:srgbClr val="fcecd5"/>
                </a:solidFill>
                <a:latin typeface="Century"/>
              </a:rPr>
              <a:t>Louis </a:t>
            </a:r>
            <a:r>
              <a:rPr b="1" lang="fr-FR" sz="2800" spc="-1" strike="noStrike">
                <a:solidFill>
                  <a:srgbClr val="fcecd5"/>
                </a:solidFill>
                <a:latin typeface="Century"/>
              </a:rPr>
              <a:t>Pasteur commence ses recherches sur la rage en 1880. Il a fait la première tentative chez un enfant mordu par un chien enragé. Le 6 Juin 1885, début de la première série d'injections et, trois mois plus tard, l'enfant est sauvé. 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cecd5"/>
                </a:solidFill>
                <a:latin typeface="Century"/>
              </a:rPr>
              <a:t>     </a:t>
            </a:r>
            <a:r>
              <a:rPr b="1" lang="fr-FR" sz="2800" spc="-1" strike="noStrike">
                <a:solidFill>
                  <a:srgbClr val="fcecd5"/>
                </a:solidFill>
                <a:latin typeface="Century"/>
              </a:rPr>
              <a:t>Académie de Sciences de la France a décidé de créer une institution pour le traitement de la rage, qui s’appelé l'Institut Pasteur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fr-FR" sz="27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ll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http://t3.gstatic.com/images?q=tbn:ANd9GcQARbNRm6iU4T2CX5JFCtHcRcKv7yEEv1aybPAOcgpKp_PYE9Kai-DFiPY0SQ"/>
          <p:cNvPicPr/>
          <p:nvPr/>
        </p:nvPicPr>
        <p:blipFill>
          <a:blip r:embed="rId1"/>
          <a:stretch/>
        </p:blipFill>
        <p:spPr>
          <a:xfrm>
            <a:off x="-19080" y="1706400"/>
            <a:ext cx="4226040" cy="9747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http://www.google.ro/url?source=imglanding&amp;ct=img&amp;q=http://1.bp.blogspot.com/_eg4RyNmPMYM/TDHmORlMNpI/AAAAAAAAIbs/PCRiyEJ5nXI/s400/Louis+Pasteur.jpg&amp;sa=X&amp;ei=CIemT4__CYqi8QSe8qW2Ag&amp;ved=0CAkQ8wc&amp;usg=AFQjCNEn6sxaOPUOfAI9ZMX9Gpm5wmKbMQ"/>
          <p:cNvPicPr/>
          <p:nvPr/>
        </p:nvPicPr>
        <p:blipFill>
          <a:blip r:embed="rId2"/>
          <a:stretch/>
        </p:blipFill>
        <p:spPr>
          <a:xfrm>
            <a:off x="4224240" y="12600"/>
            <a:ext cx="4926240" cy="106063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solidFill>
            <a:srgbClr val="a5644e"/>
          </a:solidFill>
          <a:ln w="19080">
            <a:solidFill>
              <a:srgbClr val="784737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cecd5"/>
                </a:solidFill>
                <a:latin typeface="Kristen ITC"/>
              </a:rPr>
              <a:t>Les Talons Aiguilles</a:t>
            </a:r>
            <a:br>
              <a:rPr sz="4000"/>
            </a:br>
            <a:endParaRPr b="0" lang="en-US" sz="40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solidFill>
            <a:srgbClr val="f8d7be"/>
          </a:solidFill>
          <a:ln w="10080">
            <a:solidFill>
              <a:srgbClr val="f0a22e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23227"/>
                </a:solidFill>
                <a:latin typeface="Century"/>
              </a:rPr>
              <a:t>Les découverts dans les tombes égyptiennes datant de 4000 av J.-C. Mais, les femmes ont dû attendre jusqu'en 1950 et l'invention d'une fine tige métallique que Salvatore Ferragamo a nommé le Stiletto. Le mot vient du grec "stylos" ou "pilier".</a:t>
            </a:r>
            <a:br>
              <a:rPr sz="2900"/>
            </a:br>
            <a:r>
              <a:rPr b="0" lang="fr-FR" sz="2900" spc="-1" strike="noStrike">
                <a:solidFill>
                  <a:srgbClr val="523227"/>
                </a:solidFill>
                <a:latin typeface="Century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http://www.stilfeminin.ro/images/stories/imaginiarticole/modasifrumusete/istoriapantofului/l.jpg"/>
          <p:cNvPicPr/>
          <p:nvPr/>
        </p:nvPicPr>
        <p:blipFill>
          <a:blip r:embed="rId1"/>
          <a:stretch/>
        </p:blipFill>
        <p:spPr>
          <a:xfrm>
            <a:off x="533520" y="457200"/>
            <a:ext cx="7896240" cy="5994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http://www.google.ro/url?source=imglanding&amp;ct=img&amp;q=http://www.romaniaturistica.ro/imagini_articole/indicator_directie.jpg&amp;sa=X&amp;ei=h7SmT4fRF4-w8AT1t_juBQ&amp;ved=0CAoQ8wc&amp;usg=AFQjCNG8EsHiDDM3fRuu2eCLbdZ5qdLmjQ"/>
          <p:cNvPicPr/>
          <p:nvPr/>
        </p:nvPicPr>
        <p:blipFill>
          <a:blip r:embed="rId2"/>
          <a:stretch/>
        </p:blipFill>
        <p:spPr>
          <a:xfrm>
            <a:off x="1905120" y="1371600"/>
            <a:ext cx="4800600" cy="48006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http://www.google.ro/url?source=imglanding&amp;ct=img&amp;q=http://1.bp.blogspot.com/-SNIBWUOXPlE/Td53D9NMoPI/AAAAAAAAAIA/q4iFEJQiW1k/s1600/marilyn.jpg&amp;sa=X&amp;ei=hLWmT8qrF4a08ATbjN2eAw&amp;ved=0CAkQ8wc4JQ&amp;usg=AFQjCNFOkdTkE-sHR8fn-qvGAddPlbsUiw"/>
          <p:cNvPicPr/>
          <p:nvPr/>
        </p:nvPicPr>
        <p:blipFill>
          <a:blip r:embed="rId3"/>
          <a:stretch/>
        </p:blipFill>
        <p:spPr>
          <a:xfrm>
            <a:off x="762120" y="457200"/>
            <a:ext cx="7543800" cy="6156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http://www.google.ro/url?source=imglanding&amp;ct=img&amp;q=http://www.romaniaturistica.ro/imagini_articole/indicator_directie.jpg&amp;sa=X&amp;ei=h7SmT4fRF4-w8AT1t_juBQ&amp;ved=0CAoQ8wc&amp;usg=AFQjCNG8EsHiDDM3fRuu2eCLbdZ5qdLmjQ"/>
          <p:cNvPicPr/>
          <p:nvPr/>
        </p:nvPicPr>
        <p:blipFill>
          <a:blip r:embed="rId4"/>
          <a:stretch/>
        </p:blipFill>
        <p:spPr>
          <a:xfrm>
            <a:off x="1905120" y="1295280"/>
            <a:ext cx="5105160" cy="51055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0" descr="http://www.google.ro/url?source=imglanding&amp;ct=img&amp;q=http://www.christianlouboutinsale--outlet.com/images/Christian%20Louboutin%20Sandals/CL010049_03.jpg&amp;sa=X&amp;ei=Q7amT5DaKIqs9AT01r3kAw&amp;ved=0CAkQ8wc4qAE&amp;usg=AFQjCNEtMsp8pP7M-R3Be8k8hAmW6GL_yg"/>
          <p:cNvPicPr/>
          <p:nvPr/>
        </p:nvPicPr>
        <p:blipFill>
          <a:blip r:embed="rId5"/>
          <a:stretch/>
        </p:blipFill>
        <p:spPr>
          <a:xfrm>
            <a:off x="1523880" y="60948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7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70" fill="hold"/>
                                        <p:tgtEl>
                                          <p:spTgt spid="3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HOME</cp:lastModifiedBy>
  <dcterms:modified xsi:type="dcterms:W3CDTF">2012-06-02T05:53:07Z</dcterms:modified>
  <cp:revision>206</cp:revision>
  <dc:subject/>
  <dc:title>Slide 1</dc:title>
</cp:coreProperties>
</file>