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C62-EA6D-4DC7-ABA0-A34E6D6E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97C-0D66-489D-B084-5E1D3C21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836-0CF4-4443-8BF7-3C2221A8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0CD-9A98-4440-9C22-14B5790F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E36C-0556-4802-B297-7AFA89F4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B342-4067-4A58-882B-373C6F50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A376-B4A7-446B-9696-8FF4418B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81C2-DD6E-463C-89DE-4D8B09F5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7B0C-9A58-411B-BE6D-60ABDBBC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F1A8-9D62-49EB-91B4-AB687F62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D6CA-78A4-4919-8C27-F3640779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357-6E86-4009-AAEA-C339ED07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3A9B-B485-4DDE-AEE5-44AE84F0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AF19-F355-41F1-A065-5823BFD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EE9F-5EA1-4DBE-B525-D9CC803E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75BA-7921-46BF-B30C-0A781785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7BDD-DBFB-48D8-922F-B2BB0C59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516AF-0C52-4243-84D0-A2E6BEAF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5E626-DC55-439E-8A62-935EF7F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FED7D-4DA8-400D-81E8-BFB18F10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DACF8-C965-4BC9-AC31-605E8CB3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C16D8-DAC9-4FBC-B997-61E92EFB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E5A-F3AB-4020-8B34-11E893F2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F72D7-0992-4CC6-8813-E9A4BB76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582E7-A3DC-49BB-93FC-7306CC01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81709-BD5A-43D3-A1B0-A258ABAF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4BE9C-BAFA-4FE3-8235-E466C9A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F1237-9E0A-4177-A186-79A610AD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E057A-51AB-499A-A7E7-2086B6CC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707AC-1312-4711-BB5B-57C16A87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C20C2-4C69-4E9E-965A-FCBC23D3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40E62-BE09-430E-97C0-0B49DA5D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D0283-3E6C-4B37-B2F5-4348C079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FE2-C2F0-4425-BAD1-62B43065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86E43-3FB2-4020-A586-85910F48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F6B53-E1C4-4FA2-9974-63C3D692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19F08-D3DD-4B16-87BB-EB11B504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27123-021E-4744-924E-6993956D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B7F4C-2143-4820-B480-E025EC2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899A34-5734-44FB-A838-7C008BFA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B7D0B-8E7B-4D86-A557-A934FDD2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684A8-0927-428D-AD40-F4C799D8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D8A8D-A832-45EF-A729-1F5D27CC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A159B-3542-4CB8-80AC-D8FB2D66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411-0EEE-4C08-ABA5-2BD7C987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72E70-1087-4DC7-9D83-38B285E1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B1763-2115-42A5-821F-A1CFA321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2CF92-56EF-48A4-AF04-E70804F3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6785C-21CA-4FF8-9BF8-F9092E0A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86BCE-CB58-48B4-AD4D-06012F0B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A566B-8593-40C6-962E-201160D4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30F39-AAC2-4122-A10F-850EEABF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A330E-17D2-4C5B-AE9D-5530EC1C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8E3B4-81BE-4265-A197-4DB31931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B4DB1-C88E-46BC-8EA5-5F160AE6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C46-879E-4EAD-8FD3-ADBD312A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5657E-E982-4022-9502-6A7C37D9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E3D75-4DD7-47A0-B799-88DF30AC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704B7-466B-4512-8993-4E764F01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6EE65-1834-4DF2-96CD-1E0E199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8230E-61A4-43DE-BD8E-C32D9EF5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784B-0567-4B26-939F-B6B3E9B3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B32B3-C937-4B7D-8789-5793BD95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7AC67-3198-4DF3-8A5A-E7722DA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372E6-79F6-4A2B-B190-814108BF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939E2-B8ED-45A6-A888-8A29C7F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A29-054C-46F1-BDA8-9F6792D8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4587-1913-41BF-94ED-CFDD225C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7B8EA-E2DB-42A9-8930-B1911C7F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0796B-29A9-4148-A249-1FF6992D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C70665-E0F9-43EC-AE28-E2C13E73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1992E-0476-4683-9974-1414DD2E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4712E6-05FA-4B38-BFB2-32A98F0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337540-5C4E-4E6F-87ED-F045271D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FD20E-5010-4D94-B63C-F8E539A6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C928E-C808-4716-A8DD-BF82A7B3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93A9A-6D36-444B-8ADB-1E0C99A4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868-5BA7-45F4-9179-BDA3FBEC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E3DF3-2792-4479-870D-F84EABEE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6736B-0925-458D-9FFC-87D7FA27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EA279-AF67-4F82-867B-B127121D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D6C5C-F8D5-415E-A2B6-7647E018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8357D-E0C5-48D0-951D-1817E784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48583-CE0B-4101-BF34-EF15D30F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94E6B-C4EC-4EC6-82DE-AD71AAE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CE1A0-E517-49C1-88F1-D1AD8520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C9C78-9EEC-4432-9EA3-82C5F2C9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4118A-05C6-452F-BBC9-A2649F10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105-E4B5-4A6F-99BB-22CF6F53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EA0B5-C59A-4483-AF6B-50F5DE31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82C4-BE0B-448D-BE09-AC8AF20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2245-E216-4B8C-AB42-26BC262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C6DA1-DA87-4F37-8D6A-125536AD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5FF0C-2DF2-42F5-BF42-111DEB78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E41B0-4DB0-486C-9706-D1141D3A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95869-B58C-4450-AC21-CD4949BC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F903-5B11-4A74-9557-AA78CC86C12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eec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beec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eec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EA71-BC25-43F2-BEE6-40E5EFC0A33E}" type="slidenum">
              <a:rPr b="1" lang="en-US" sz="1400" spc="-1" strike="noStrike">
                <a:solidFill>
                  <a:srgbClr val="fbeec9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0175-2F81-4D50-95A5-330395A353E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D165-D123-412C-A36C-B3A9F0791BF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80C4-6E84-413B-BFF8-C822271C626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FDAA-7E66-48D2-B8F0-0CF878DBFC9B}" type="slidenum">
              <a:rPr b="1" lang="en-US" sz="1400" spc="-1" strike="noStrike">
                <a:solidFill>
                  <a:srgbClr val="4e3b3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FAC0-BD77-4426-ABE7-8FCB6E50A2FC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C60E-DD5A-42CF-8283-A3C850F1ABE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9360">
            <a:solidFill>
              <a:srgbClr val="7c4b3b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    </a:t>
            </a: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Ninu Teodora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1" name="Rectangle 3" descr=""/>
          <p:cNvPicPr/>
          <p:nvPr/>
        </p:nvPicPr>
        <p:blipFill>
          <a:blip r:embed="rId1"/>
          <a:stretch/>
        </p:blipFill>
        <p:spPr>
          <a:xfrm>
            <a:off x="-311040" y="262080"/>
            <a:ext cx="9156600" cy="3736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ttp://www.google.ro/url?source=imglanding&amp;ct=img&amp;q=http://www.cerceteaza.com/wp-content/uploads/2010/08/Primul-bec-electric.jpg&amp;sa=X&amp;ei=FGSmT-WCLZOi8gSpwNTNAw&amp;ved=0CAoQ8wc&amp;usg=AFQjCNFG-o2DLkd0Ma3dyXfV68So495miA"/>
          <p:cNvPicPr/>
          <p:nvPr/>
        </p:nvPicPr>
        <p:blipFill>
          <a:blip r:embed="rId2"/>
          <a:stretch/>
        </p:blipFill>
        <p:spPr>
          <a:xfrm>
            <a:off x="-55440" y="3090960"/>
            <a:ext cx="3139920" cy="2743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http://www.google.ro/url?source=imglanding&amp;ct=img&amp;q=http://www.ghimpele.ro/wp-content/uploads/2012/05/vaccin-antirabic-ghimpele-630x418.jpg&amp;sa=X&amp;ei=ZmSmT6_MLYf68gTo7pHPAw&amp;ved=0CAkQ8wc&amp;usg=AFQjCNHXWHu04DEg8DETI1RykhnnMZrCBg"/>
          <p:cNvPicPr/>
          <p:nvPr/>
        </p:nvPicPr>
        <p:blipFill>
          <a:blip r:embed="rId3"/>
          <a:stretch/>
        </p:blipFill>
        <p:spPr>
          <a:xfrm>
            <a:off x="5784840" y="3425760"/>
            <a:ext cx="2975040" cy="2384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google.ro/url?source=imglanding&amp;ct=img&amp;q=http://www.christianlouboutinshoeonline.com/images/36shoes1/clsandals28.jpg&amp;sa=X&amp;ei=HWWmT_moNYP69QT4-fDZAw&amp;ved=0CAoQ8wc&amp;usg=AFQjCNEVR6NUpwaSDgWGtVSOZPTYnBKt4Q"/>
          <p:cNvPicPr/>
          <p:nvPr/>
        </p:nvPicPr>
        <p:blipFill>
          <a:blip r:embed="rId4"/>
          <a:stretch/>
        </p:blipFill>
        <p:spPr>
          <a:xfrm>
            <a:off x="6669000" y="55440"/>
            <a:ext cx="251784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-55440" y="-23760"/>
            <a:ext cx="925488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49568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7" name="Picture 2" descr="http://www.google.ro/url?source=imglanding&amp;ct=img&amp;q=http://www.my-lampes.com/blog-lampe/wp-content/uploads/2012/04/thomas-edison-lampe-incandescence.jpg&amp;sa=X&amp;ei=63SmT_6GLYqs8ASz7OCgAw&amp;ved=0CAkQ8wc4EQ&amp;usg=AFQjCNEOvn6cqK9TDiE1hYbLEsFYPJmhFw"/>
          <p:cNvPicPr/>
          <p:nvPr/>
        </p:nvPicPr>
        <p:blipFill>
          <a:blip r:embed="rId2"/>
          <a:stretch/>
        </p:blipFill>
        <p:spPr>
          <a:xfrm>
            <a:off x="0" y="1523880"/>
            <a:ext cx="4533840" cy="266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58" name="Picture 4" descr="http://www.google.ro/url?source=imglanding&amp;ct=img&amp;q=http://www.larousse.fr/encyclopedie/data/images/1002844-Thomas_Edison.jpg&amp;sa=X&amp;ei=LHWmT9wXhbb1BMyUuMID&amp;ved=0CAkQ8wc&amp;usg=AFQjCNHFAPCYgzu7rDn-0an6zCbPQWF_WQ"/>
          <p:cNvPicPr/>
          <p:nvPr/>
        </p:nvPicPr>
        <p:blipFill>
          <a:blip r:embed="rId3"/>
          <a:stretch/>
        </p:blipFill>
        <p:spPr>
          <a:xfrm>
            <a:off x="0" y="3962520"/>
            <a:ext cx="4495680" cy="2895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59" name="TextBox 5"/>
          <p:cNvSpPr/>
          <p:nvPr/>
        </p:nvSpPr>
        <p:spPr>
          <a:xfrm>
            <a:off x="4952880" y="1523880"/>
            <a:ext cx="3733920" cy="521460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Le 22 Octobre 1879, un inventeur  américain  qui s’appele Thomas Edi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 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a decouvert l'éclairage électriqu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La première lampe à incandescence dure pendant quarante heures et  cette lampe represente le fin de l’éclairage avec l’huile ou avec le g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3b14"/>
                </a:solidFill>
                <a:latin typeface="Kristen ITC"/>
              </a:rPr>
              <a:t>Le vaccin antirabique</a:t>
            </a: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a5644e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    </a:t>
            </a: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Louis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Pasteur commence ses recherches sur la rage en 1880. Il a fait la première tentative chez un enfant mordu par un chien enragé. Le 6 Juin 1885, début de la première série d'injections et, trois mois plus tard, l'enfant est sauvé. 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    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Académie de Sciences de la France a décidé de créer une institution pour le traitement de la rage, qui s’appelé l'Institut Pasteur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fr-FR" sz="27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t3.gstatic.com/images?q=tbn:ANd9GcQARbNRm6iU4T2CX5JFCtHcRcKv7yEEv1aybPAOcgpKp_PYE9Kai-DFiPY0SQ"/>
          <p:cNvPicPr/>
          <p:nvPr/>
        </p:nvPicPr>
        <p:blipFill>
          <a:blip r:embed="rId1"/>
          <a:stretch/>
        </p:blipFill>
        <p:spPr>
          <a:xfrm>
            <a:off x="-19080" y="1706400"/>
            <a:ext cx="4226040" cy="9747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www.google.ro/url?source=imglanding&amp;ct=img&amp;q=http://1.bp.blogspot.com/_eg4RyNmPMYM/TDHmORlMNpI/AAAAAAAAIbs/PCRiyEJ5nXI/s400/Louis+Pasteur.jpg&amp;sa=X&amp;ei=CIemT4__CYqi8QSe8qW2Ag&amp;ved=0CAkQ8wc&amp;usg=AFQjCNEn6sxaOPUOfAI9ZMX9Gpm5wmKbMQ"/>
          <p:cNvPicPr/>
          <p:nvPr/>
        </p:nvPicPr>
        <p:blipFill>
          <a:blip r:embed="rId2"/>
          <a:stretch/>
        </p:blipFill>
        <p:spPr>
          <a:xfrm>
            <a:off x="4224240" y="12600"/>
            <a:ext cx="4926240" cy="10606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a5644e"/>
          </a:solidFill>
          <a:ln w="19080">
            <a:solidFill>
              <a:srgbClr val="784737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cecd5"/>
                </a:solidFill>
                <a:latin typeface="Kristen ITC"/>
              </a:rPr>
              <a:t>Les Talons Aiguilles</a:t>
            </a: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f8d7be"/>
          </a:solidFill>
          <a:ln w="10080">
            <a:solidFill>
              <a:srgbClr val="f0a22e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Les découverts dans les tombes égyptiennes datant de 4000 av J.-C. Mais, les femmes ont dû attendre jusqu'en 1950 et l'invention d'une fine tige métallique que Salvatore Ferragamo a nommé le Stiletto. Le mot vient du grec "stylos" ou "pilier".</a:t>
            </a:r>
            <a:br>
              <a:rPr sz="2900"/>
            </a:b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stilfeminin.ro/images/stories/imaginiarticole/modasifrumusete/istoriapantofului/l.jpg"/>
          <p:cNvPicPr/>
          <p:nvPr/>
        </p:nvPicPr>
        <p:blipFill>
          <a:blip r:embed="rId1"/>
          <a:stretch/>
        </p:blipFill>
        <p:spPr>
          <a:xfrm>
            <a:off x="533520" y="457200"/>
            <a:ext cx="7896240" cy="599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2"/>
          <a:stretch/>
        </p:blipFill>
        <p:spPr>
          <a:xfrm>
            <a:off x="1905120" y="13716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www.google.ro/url?source=imglanding&amp;ct=img&amp;q=http://1.bp.blogspot.com/-SNIBWUOXPlE/Td53D9NMoPI/AAAAAAAAAIA/q4iFEJQiW1k/s1600/marilyn.jpg&amp;sa=X&amp;ei=hLWmT8qrF4a08ATbjN2eAw&amp;ved=0CAkQ8wc4JQ&amp;usg=AFQjCNFOkdTkE-sHR8fn-qvGAddPlbsUiw"/>
          <p:cNvPicPr/>
          <p:nvPr/>
        </p:nvPicPr>
        <p:blipFill>
          <a:blip r:embed="rId3"/>
          <a:stretch/>
        </p:blipFill>
        <p:spPr>
          <a:xfrm>
            <a:off x="762120" y="457200"/>
            <a:ext cx="7543800" cy="6156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4"/>
          <a:stretch/>
        </p:blipFill>
        <p:spPr>
          <a:xfrm>
            <a:off x="1905120" y="1295280"/>
            <a:ext cx="5105160" cy="510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ttp://www.google.ro/url?source=imglanding&amp;ct=img&amp;q=http://www.christianlouboutinsale--outlet.com/images/Christian%20Louboutin%20Sandals/CL010049_03.jpg&amp;sa=X&amp;ei=Q7amT5DaKIqs9AT01r3kAw&amp;ved=0CAkQ8wc4qAE&amp;usg=AFQjCNEtMsp8pP7M-R3Be8k8hAmW6GL_yg"/>
          <p:cNvPicPr/>
          <p:nvPr/>
        </p:nvPicPr>
        <p:blipFill>
          <a:blip r:embed="rId5"/>
          <a:stretch/>
        </p:blipFill>
        <p:spPr>
          <a:xfrm>
            <a:off x="1523880" y="6094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2-06-02T05:53:07Z</dcterms:modified>
  <cp:revision>206</cp:revision>
  <dc:subject/>
  <dc:title>Slide 1</dc:title>
</cp:coreProperties>
</file>