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E38-8E04-417B-9FB3-4F0F2054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FCB-13D6-485A-B6F8-9DBFF1DE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4EF-49AE-4701-AB00-8465CB7E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F683-8726-4DAD-9ECE-8D0C5DDD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1073-71FE-4A20-80CB-1D0E7FE8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E8AB-B900-44C5-AEBE-73F9FE97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F539-B4A5-41C0-8668-7BDF9EC2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E7DC-86B0-4383-A754-D3FEC77A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7470-8FF4-4BE5-8C3D-0E1DBAC8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1246-F5FA-4AF3-BE6B-FFD3C710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1C4E-55BC-48F4-BD27-D0C1E560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D8B0-E77D-428A-918D-BEB69F73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CC5A-2F9B-4AFF-8FD5-A3DA588E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24B9-90F1-4C8D-9935-79BA47ED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74E9-E62E-4889-B888-16110216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90EB-65C6-4DBF-8B6C-ABB5696E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8E6F-F278-4533-8833-00A1F0E5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96A3E-AE42-4053-913A-77D8DB3C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A585C-8971-4400-BF4A-105760B4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36FC0-FDD1-4D49-B9F0-00988A6B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3E395-15AA-476B-8820-751E923B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8C1C5-0C23-4BAB-A07D-C9730EAB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47CB-7DA1-4925-A44F-6295EE16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057E7-AD60-407F-B390-A12FDD69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DCBBCB-8FE3-4552-B2DC-851E70B2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7B4D18-6F7D-46E4-888B-EB5F0A88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F960C-372B-4FA5-8D4A-3686A034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DEFEF-AD88-48A3-91DA-4D3DB158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76D9EF-F826-4326-B84E-CF5F7581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C2C56-6F4E-454E-A6D2-A28F0C89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18691C-E6D5-4800-AC4A-A40E93C9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BC5C09-3312-4547-B5AB-86EF88E9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A8899F-CDFB-48A5-8FAC-4D87B6CC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4A37-18A9-4FFD-B3B7-05FDB17D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C015BB-2343-4ACF-9963-65318268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175F83-F3CE-4236-A5BE-F8C1606F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8DC06F-8DEB-4CDB-888E-AB91C98A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78DB41-EE26-43AE-A6F3-1207D9F2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437883-5388-4403-927C-1D66627F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39D2BA-4B06-4533-BE60-0AEB415F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413A69-D766-43F4-96D5-C72E3F97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AF5742-B9F7-4E70-910D-70695E2F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53BC78-62F8-4456-BD49-E27992B9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72945C-FA39-424C-AA0D-05609A42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0FB9-45EE-4B65-8D7E-35DED4D7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CB84BA-4572-42BB-92FB-E90BAA55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8E523E-CBE5-4834-8A2C-09EB5679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B37F29-9B9D-4A7A-B7B4-070B807F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99A5E8-D2FF-489E-A1AF-7EF6D077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94550C-22BE-46B3-8A0B-F4DCE21B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BAA288-5BBF-47BE-86D3-AFBB3B24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0CF1C7-DF23-4A52-A088-6758C560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B2E0BC-526C-4B08-A3F0-3505EF80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B0E9EB-8F43-4836-BF48-94087DD1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8DB05E-F2C8-495C-89A0-93E0ED10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50F3-61C6-4D80-84E9-00DA6117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C5712A-B7B2-425D-827D-E4D402CF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C102D-3F49-44D4-9785-7A16583D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B360F-EAD0-4A7D-9A11-0E6BAD25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590D9-2574-4AAA-9ED8-C373100B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45667-2077-44B5-B0E4-976A45E2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6C5B7-789F-42CB-84F3-50214367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12810-0272-4F2F-9AE7-A2F833EA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A9891-99A2-45CE-A346-49FFCC5E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A782B-3B76-4A3C-9AF9-C7A1AEBE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2A222-2E93-466E-95D2-A96C60CB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3970-D71A-480B-BBD0-7C752354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5FDBB-6F21-49F0-9906-BD6B109D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877C8-3A5C-4743-9677-82CA7166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5B4A7-ADF7-4AD3-8ADB-11B4E410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30BCD2-DEA4-40AD-B9D3-8ACAF8F1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092F29-9DB6-4E4C-A049-70178E6E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800166-DDA7-4BAC-A94B-CFD05808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ACC9B7-DE45-48CA-B31E-89FB4DEF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A11BEC-61AC-47C8-AED7-0F4729FE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05529B-2D0B-4D00-8B41-9B45DD0F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7F4753-0C88-491C-A173-A14D48C4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C0B-466B-4B27-BCB4-FAEC4A9F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CC2FFA-EF6B-4EEB-9651-F5CCF46B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18D136-1E31-45D9-B281-2331CB6C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EE42C3-E484-4F30-81D5-BE06F0D1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768086-FA82-46E7-B1DA-AC601A9A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BB4D4A-2259-4FC7-A99F-258AB17C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13A7B-3408-427B-AF59-313B3B66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F898A-ADAD-49AB-A354-AD9D0C69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64439-0FA5-458F-8312-A79867E1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0213C-D680-4A37-8BF5-55D01649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579E6-7BB7-42FA-BF21-D57924C4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66A1-6197-49E1-9A91-B9D56000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53E71-1739-4DAF-8E73-79C96E4B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413B9-8C68-4EC1-8C22-F6C092E2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55DC1-7731-4270-A349-4D226076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9BF0A-DDE5-4ACC-9E0B-36EE1ECF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422A5-50D0-4F3E-99AE-A8AF669A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04F82-0B1C-4EEF-8627-30C3F9E6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81D74-8711-4056-8B8F-27F41972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B985-3309-416C-8882-080542FA243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eec9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beec9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beec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5DAD-7808-4072-AC11-05A47E49EDAC}" type="slidenum">
              <a:rPr b="1" lang="en-US" sz="1400" spc="-1" strike="noStrike">
                <a:solidFill>
                  <a:srgbClr val="fbeec9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93CA-1403-495D-B7A5-9935808FCC4F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E4A0-E524-4A6C-9DE1-AAD13B44B88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BEAD-F349-42A8-B54C-92BC0AB34D2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6BA0-9377-4FCE-8355-CC7AB7AACE0F}" type="slidenum">
              <a:rPr b="1" lang="en-US" sz="1400" spc="-1" strike="noStrike">
                <a:solidFill>
                  <a:srgbClr val="4e3b30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31F6-B0FF-4D3C-9280-D1F3C65CB51D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E519-0735-47DA-96E0-DA35C031648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3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9360">
            <a:solidFill>
              <a:srgbClr val="7c4b3b"/>
            </a:solidFill>
            <a:miter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c4c2c"/>
                </a:solidFill>
                <a:latin typeface="Tempus Sans ITC"/>
              </a:rPr>
              <a:t>    </a:t>
            </a:r>
            <a:r>
              <a:rPr b="1" lang="en-US" sz="3600" spc="-1" strike="noStrike">
                <a:solidFill>
                  <a:srgbClr val="6c4c2c"/>
                </a:solidFill>
                <a:latin typeface="Tempus Sans ITC"/>
              </a:rPr>
              <a:t>Ninu Teodora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1" name="Rectangle 3" descr=""/>
          <p:cNvPicPr/>
          <p:nvPr/>
        </p:nvPicPr>
        <p:blipFill>
          <a:blip r:embed="rId1"/>
          <a:stretch/>
        </p:blipFill>
        <p:spPr>
          <a:xfrm>
            <a:off x="-311040" y="262080"/>
            <a:ext cx="9156600" cy="3736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http://www.google.ro/url?source=imglanding&amp;ct=img&amp;q=http://www.cerceteaza.com/wp-content/uploads/2010/08/Primul-bec-electric.jpg&amp;sa=X&amp;ei=FGSmT-WCLZOi8gSpwNTNAw&amp;ved=0CAoQ8wc&amp;usg=AFQjCNFG-o2DLkd0Ma3dyXfV68So495miA"/>
          <p:cNvPicPr/>
          <p:nvPr/>
        </p:nvPicPr>
        <p:blipFill>
          <a:blip r:embed="rId2"/>
          <a:stretch/>
        </p:blipFill>
        <p:spPr>
          <a:xfrm>
            <a:off x="-55440" y="3090960"/>
            <a:ext cx="3139920" cy="27432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http://www.google.ro/url?source=imglanding&amp;ct=img&amp;q=http://www.ghimpele.ro/wp-content/uploads/2012/05/vaccin-antirabic-ghimpele-630x418.jpg&amp;sa=X&amp;ei=ZmSmT6_MLYf68gTo7pHPAw&amp;ved=0CAkQ8wc&amp;usg=AFQjCNHXWHu04DEg8DETI1RykhnnMZrCBg"/>
          <p:cNvPicPr/>
          <p:nvPr/>
        </p:nvPicPr>
        <p:blipFill>
          <a:blip r:embed="rId3"/>
          <a:stretch/>
        </p:blipFill>
        <p:spPr>
          <a:xfrm>
            <a:off x="5784840" y="3425760"/>
            <a:ext cx="2975040" cy="2384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http://www.google.ro/url?source=imglanding&amp;ct=img&amp;q=http://www.christianlouboutinshoeonline.com/images/36shoes1/clsandals28.jpg&amp;sa=X&amp;ei=HWWmT_moNYP69QT4-fDZAw&amp;ved=0CAoQ8wc&amp;usg=AFQjCNEVR6NUpwaSDgWGtVSOZPTYnBKt4Q"/>
          <p:cNvPicPr/>
          <p:nvPr/>
        </p:nvPicPr>
        <p:blipFill>
          <a:blip r:embed="rId4"/>
          <a:stretch/>
        </p:blipFill>
        <p:spPr>
          <a:xfrm>
            <a:off x="6669000" y="55440"/>
            <a:ext cx="2517840" cy="2522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-55440" y="-23760"/>
            <a:ext cx="9254880" cy="1407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495680" y="1523520"/>
            <a:ext cx="4648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7" name="Picture 2" descr="http://www.google.ro/url?source=imglanding&amp;ct=img&amp;q=http://www.my-lampes.com/blog-lampe/wp-content/uploads/2012/04/thomas-edison-lampe-incandescence.jpg&amp;sa=X&amp;ei=63SmT_6GLYqs8ASz7OCgAw&amp;ved=0CAkQ8wc4EQ&amp;usg=AFQjCNEOvn6cqK9TDiE1hYbLEsFYPJmhFw"/>
          <p:cNvPicPr/>
          <p:nvPr/>
        </p:nvPicPr>
        <p:blipFill>
          <a:blip r:embed="rId2"/>
          <a:stretch/>
        </p:blipFill>
        <p:spPr>
          <a:xfrm>
            <a:off x="0" y="1523880"/>
            <a:ext cx="4533840" cy="2667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58" name="Picture 4" descr="http://www.google.ro/url?source=imglanding&amp;ct=img&amp;q=http://www.larousse.fr/encyclopedie/data/images/1002844-Thomas_Edison.jpg&amp;sa=X&amp;ei=LHWmT9wXhbb1BMyUuMID&amp;ved=0CAkQ8wc&amp;usg=AFQjCNHFAPCYgzu7rDn-0an6zCbPQWF_WQ"/>
          <p:cNvPicPr/>
          <p:nvPr/>
        </p:nvPicPr>
        <p:blipFill>
          <a:blip r:embed="rId3"/>
          <a:stretch/>
        </p:blipFill>
        <p:spPr>
          <a:xfrm>
            <a:off x="0" y="3962520"/>
            <a:ext cx="4495680" cy="2895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59" name="TextBox 5"/>
          <p:cNvSpPr/>
          <p:nvPr/>
        </p:nvSpPr>
        <p:spPr>
          <a:xfrm>
            <a:off x="4952880" y="1523880"/>
            <a:ext cx="3733920" cy="5214600"/>
          </a:xfrm>
          <a:prstGeom prst="rect">
            <a:avLst/>
          </a:prstGeom>
          <a:solidFill>
            <a:srgbClr val="e3cabd"/>
          </a:solidFill>
          <a:ln w="10080">
            <a:solidFill>
              <a:srgbClr val="c1752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    </a:t>
            </a:r>
            <a:r>
              <a:rPr b="1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Le 22 Octobre 1879, un inventeur  américain  qui s’appele Thomas Edi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 </a:t>
            </a:r>
            <a:r>
              <a:rPr b="1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a decouvert l'éclairage électrique.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    La première lampe à incandescence dure pendant quarante heures et  cette lampe represente le fin de l’éclairage avec l’huile ou avec le ga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solidFill>
            <a:srgbClr val="e3cabd"/>
          </a:solidFill>
          <a:ln w="10080">
            <a:solidFill>
              <a:srgbClr val="c1752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3b14"/>
                </a:solidFill>
                <a:latin typeface="Kristen ITC"/>
              </a:rPr>
              <a:t>Le vaccin antirabique</a:t>
            </a:r>
            <a:endParaRPr b="0" lang="en-US" sz="40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solidFill>
            <a:srgbClr val="a5644e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cd5"/>
                </a:solidFill>
                <a:latin typeface="Century"/>
              </a:rPr>
              <a:t>    </a:t>
            </a:r>
            <a:r>
              <a:rPr b="1" lang="en-US" sz="2800" spc="-1" strike="noStrike">
                <a:solidFill>
                  <a:srgbClr val="fcecd5"/>
                </a:solidFill>
                <a:latin typeface="Century"/>
              </a:rPr>
              <a:t>Louis </a:t>
            </a:r>
            <a:r>
              <a:rPr b="1" lang="fr-FR" sz="2800" spc="-1" strike="noStrike">
                <a:solidFill>
                  <a:srgbClr val="fcecd5"/>
                </a:solidFill>
                <a:latin typeface="Century"/>
              </a:rPr>
              <a:t>Pasteur commence ses recherches sur la rage en 1880. Il a fait la première tentative chez un enfant mordu par un chien enragé. Le 6 Juin 1885, début de la première série d'injections et, trois mois plus tard, l'enfant est sauvé. 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cecd5"/>
                </a:solidFill>
                <a:latin typeface="Century"/>
              </a:rPr>
              <a:t>     </a:t>
            </a:r>
            <a:r>
              <a:rPr b="1" lang="fr-FR" sz="2800" spc="-1" strike="noStrike">
                <a:solidFill>
                  <a:srgbClr val="fcecd5"/>
                </a:solidFill>
                <a:latin typeface="Century"/>
              </a:rPr>
              <a:t>Académie de Sciences de la France a décidé de créer une institution pour le traitement de la rage, qui s’appelé l'Institut Pasteur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fr-FR" sz="27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ll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http://t3.gstatic.com/images?q=tbn:ANd9GcQARbNRm6iU4T2CX5JFCtHcRcKv7yEEv1aybPAOcgpKp_PYE9Kai-DFiPY0SQ"/>
          <p:cNvPicPr/>
          <p:nvPr/>
        </p:nvPicPr>
        <p:blipFill>
          <a:blip r:embed="rId1"/>
          <a:stretch/>
        </p:blipFill>
        <p:spPr>
          <a:xfrm>
            <a:off x="-19080" y="1706400"/>
            <a:ext cx="4226040" cy="9747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http://www.google.ro/url?source=imglanding&amp;ct=img&amp;q=http://1.bp.blogspot.com/_eg4RyNmPMYM/TDHmORlMNpI/AAAAAAAAIbs/PCRiyEJ5nXI/s400/Louis+Pasteur.jpg&amp;sa=X&amp;ei=CIemT4__CYqi8QSe8qW2Ag&amp;ved=0CAkQ8wc&amp;usg=AFQjCNEn6sxaOPUOfAI9ZMX9Gpm5wmKbMQ"/>
          <p:cNvPicPr/>
          <p:nvPr/>
        </p:nvPicPr>
        <p:blipFill>
          <a:blip r:embed="rId2"/>
          <a:stretch/>
        </p:blipFill>
        <p:spPr>
          <a:xfrm>
            <a:off x="4224240" y="12600"/>
            <a:ext cx="4926240" cy="106063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solidFill>
            <a:srgbClr val="a5644e"/>
          </a:solidFill>
          <a:ln w="19080">
            <a:solidFill>
              <a:srgbClr val="784737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cecd5"/>
                </a:solidFill>
                <a:latin typeface="Kristen ITC"/>
              </a:rPr>
              <a:t>Les Talons Aiguilles</a:t>
            </a:r>
            <a:br>
              <a:rPr sz="4000"/>
            </a:br>
            <a:endParaRPr b="0" lang="en-US" sz="40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solidFill>
            <a:srgbClr val="f8d7be"/>
          </a:solidFill>
          <a:ln w="10080">
            <a:solidFill>
              <a:srgbClr val="f0a22e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23227"/>
                </a:solidFill>
                <a:latin typeface="Century"/>
              </a:rPr>
              <a:t>Les découverts dans les tombes égyptiennes datant de 4000 av J.-C. Mais, les femmes ont dû attendre jusqu'en 1950 et l'invention d'une fine tige métallique que Salvatore Ferragamo a nommé le Stiletto. Le mot vient du grec "stylos" ou "pilier".</a:t>
            </a:r>
            <a:br>
              <a:rPr sz="2900"/>
            </a:br>
            <a:r>
              <a:rPr b="0" lang="fr-FR" sz="2900" spc="-1" strike="noStrike">
                <a:solidFill>
                  <a:srgbClr val="523227"/>
                </a:solidFill>
                <a:latin typeface="Century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http://www.stilfeminin.ro/images/stories/imaginiarticole/modasifrumusete/istoriapantofului/l.jpg"/>
          <p:cNvPicPr/>
          <p:nvPr/>
        </p:nvPicPr>
        <p:blipFill>
          <a:blip r:embed="rId1"/>
          <a:stretch/>
        </p:blipFill>
        <p:spPr>
          <a:xfrm>
            <a:off x="533520" y="457200"/>
            <a:ext cx="7896240" cy="5994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http://www.google.ro/url?source=imglanding&amp;ct=img&amp;q=http://www.romaniaturistica.ro/imagini_articole/indicator_directie.jpg&amp;sa=X&amp;ei=h7SmT4fRF4-w8AT1t_juBQ&amp;ved=0CAoQ8wc&amp;usg=AFQjCNG8EsHiDDM3fRuu2eCLbdZ5qdLmjQ"/>
          <p:cNvPicPr/>
          <p:nvPr/>
        </p:nvPicPr>
        <p:blipFill>
          <a:blip r:embed="rId2"/>
          <a:stretch/>
        </p:blipFill>
        <p:spPr>
          <a:xfrm>
            <a:off x="1905120" y="1371600"/>
            <a:ext cx="4800600" cy="48006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http://www.google.ro/url?source=imglanding&amp;ct=img&amp;q=http://1.bp.blogspot.com/-SNIBWUOXPlE/Td53D9NMoPI/AAAAAAAAAIA/q4iFEJQiW1k/s1600/marilyn.jpg&amp;sa=X&amp;ei=hLWmT8qrF4a08ATbjN2eAw&amp;ved=0CAkQ8wc4JQ&amp;usg=AFQjCNFOkdTkE-sHR8fn-qvGAddPlbsUiw"/>
          <p:cNvPicPr/>
          <p:nvPr/>
        </p:nvPicPr>
        <p:blipFill>
          <a:blip r:embed="rId3"/>
          <a:stretch/>
        </p:blipFill>
        <p:spPr>
          <a:xfrm>
            <a:off x="762120" y="457200"/>
            <a:ext cx="7543800" cy="6156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http://www.google.ro/url?source=imglanding&amp;ct=img&amp;q=http://www.romaniaturistica.ro/imagini_articole/indicator_directie.jpg&amp;sa=X&amp;ei=h7SmT4fRF4-w8AT1t_juBQ&amp;ved=0CAoQ8wc&amp;usg=AFQjCNG8EsHiDDM3fRuu2eCLbdZ5qdLmjQ"/>
          <p:cNvPicPr/>
          <p:nvPr/>
        </p:nvPicPr>
        <p:blipFill>
          <a:blip r:embed="rId4"/>
          <a:stretch/>
        </p:blipFill>
        <p:spPr>
          <a:xfrm>
            <a:off x="1905120" y="1295280"/>
            <a:ext cx="5105160" cy="51055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http://www.google.ro/url?source=imglanding&amp;ct=img&amp;q=http://www.christianlouboutinsale--outlet.com/images/Christian%20Louboutin%20Sandals/CL010049_03.jpg&amp;sa=X&amp;ei=Q7amT5DaKIqs9AT01r3kAw&amp;ved=0CAkQ8wc4qAE&amp;usg=AFQjCNEtMsp8pP7M-R3Be8k8hAmW6GL_yg"/>
          <p:cNvPicPr/>
          <p:nvPr/>
        </p:nvPicPr>
        <p:blipFill>
          <a:blip r:embed="rId5"/>
          <a:stretch/>
        </p:blipFill>
        <p:spPr>
          <a:xfrm>
            <a:off x="1523880" y="60948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3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HOME</cp:lastModifiedBy>
  <dcterms:modified xsi:type="dcterms:W3CDTF">2012-06-02T05:53:07Z</dcterms:modified>
  <cp:revision>206</cp:revision>
  <dc:subject/>
  <dc:title>Slide 1</dc:title>
</cp:coreProperties>
</file>