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08D-B7F5-4849-9D82-3307DCFC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88C-A18B-4C7A-AAE3-FD0A68CB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697-8F37-46A1-B7A3-12F99477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04E-15F7-4626-965B-AE8591A5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DDD1-7D7C-4980-8A01-233F2142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E64C-69FC-49C0-9B11-78F34E6D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6C89-823A-4E56-9060-754AF7DD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A8E2-F9B7-423F-BB02-D24B754A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10D0-E9D1-444D-8536-4E8241FB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DE0F-1627-43AD-BF79-AB7AE1A3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E8C4-807A-4907-BBA5-8672C312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0F1-BD63-4A61-8601-9DC71373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F928-CFBD-42E5-9A0E-7E9C5139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4721-5D61-42CB-B0D8-B3A01661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38C9-4709-4831-8AC2-0BC045F4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4E6A-BE45-4C39-AC0C-E9378736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F899-2842-444C-BDE6-35FB7EA6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BAAAD-8FF5-4249-9210-5260B78A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8061A-701D-4A47-835C-97E7C6A0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B85F8-2490-44C7-9214-EDF950D0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282DC-5730-4E6C-939E-74FF7EFF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0C169-F675-4A9E-A1B6-FF4E0FCE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A64-AC62-417B-AADF-73BD4C4F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6D8D9-97C0-4648-AEA7-B9B04930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FCB3F-D229-4CBB-9DF6-4C620695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B0B3D-CBCB-4CD7-B088-7004FAC0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A518F-0729-4E84-9D35-155A03F7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16548-15DB-4C75-B27D-419B86A6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D8955-2598-4206-8FAA-A963A857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227A0-04D7-4DAA-A922-8ECC1668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20791-ADA9-4DC6-A9A5-66D3F524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DDF829-9EAB-4A3F-B2FB-ACF64A51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E2A002-4BF5-40CC-AA7E-98F85855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FD5E-9C62-4B2A-9B85-1ABB1F30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0CBBA-F781-4DC0-B2C6-9CB20820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C350BB-E363-4AC2-A924-C60E3CEA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9518E3-8BF2-4AF5-9E00-B65F75F2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A2165C-EE73-4939-8C59-62F74909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953D92-38FD-4ACA-8161-FD532569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4889A-EC2A-42F8-8504-6909FB7F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205D4A-E9CF-4576-86F4-91274D86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F1EA9-AB36-4CFA-8906-B10869FD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7449E-8424-4E3B-BC83-599F0A38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C13E5A-45CE-4818-8C5A-14FDD05E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594-E742-4721-90D1-15F8441F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CE771-3FEC-42D0-B2C4-43917DFB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85A0C-304E-43D2-AB32-CE8C1982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7ED42-0AD8-4856-834E-FA9540D3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CAC27-1F6A-4839-905C-CACB5E19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72782-710C-4679-8D76-A5E84D83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62C6D-6724-435D-AD97-AE3C21F1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C536A5-6769-4E91-8C10-02D7CB92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9A2988-B160-4C38-A019-46AA2EB1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3FF74-29A4-4E27-86D6-2204AA4C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8E5A5-E7AD-4449-AFBF-10B6991F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779-3476-403C-8726-3647B7A1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509BE-2AEC-4FEB-91BA-F29B3A67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D5626-60B9-4EAF-BEA8-C522B272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0F166-9BA6-497C-ADED-5A186E2F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EFDE6-4280-4E0F-9388-1A789EBA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501C5-7673-42A4-912B-7FDAE3B0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9F787-C377-4D2D-A7AC-A122E61E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65C78-ADAB-4214-A1BB-46B4590A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EF8F6-04C4-4B0D-A6AC-7A96DD25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899DD-33FB-45B5-B861-C381DD76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8E73E-D3AF-4107-BAC6-D6C04689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9EF-F4DD-4C79-A737-312D4B0F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F3117-CBDB-42BD-B723-E065F97E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A2EA3-B7A1-469C-90F2-19717EC5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89277-F419-4A17-9A9B-3869FFB2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49A1B5-E7A1-48A3-B0E9-45993998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549EA-1DFD-4F00-8241-E189C370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56C195-70B5-43C7-8BC1-1F534E7E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18439C-B315-4ADD-9E82-2DF87FFB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5FF282-E109-49B0-94ED-C118F03F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5792BC-0DA4-4C34-9F8E-DFFCBB64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CBBFC-0B4D-430C-A860-3D241A9B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C5D-4BC6-4C39-8A7B-E23DC62B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4890CC-B1D2-4EA0-98DD-610A6A24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264DBC-D6CC-446A-BE51-27F1F4DB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CC3F4-FE08-4153-BFC2-3BCB9308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0C5FBC-1D25-4431-9A39-B5AFC689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6A335-9751-4499-9A5C-2294FF1A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52163-43CB-4BA9-B326-E639C817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FE801-34DB-46A8-A51E-B7A5F8F0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C1E38-828E-4DF4-B05A-35237EAE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81A9C-7307-4AD8-8BA0-F49E8EFD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B88B4-8F92-439D-8780-0108E9BD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031-A448-418C-98EE-492A396C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764CD-00B0-4562-B7A6-9E92C74B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B3CCC-E6BD-4572-8D98-15ED8DA4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A0238-B7A6-4D92-B639-C97E038A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C090C-4673-49B4-BE70-DF0C9FF6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371B4-0E37-42AD-A9B6-7D7DED1A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22AA4-BD6C-4682-BBB3-DB5D0388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A89E8-55F1-4BB4-9CAC-1DC7F37E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D15D-2ABF-4219-BAFD-B16CA08C649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eec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beec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eec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FF39-D13D-4A64-B5AA-DD73FF5F2192}" type="slidenum">
              <a:rPr b="1" lang="en-US" sz="1400" spc="-1" strike="noStrike">
                <a:solidFill>
                  <a:srgbClr val="fbeec9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A3E7-E9C1-4A07-9206-16EEF6781AC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A528-4AE1-4137-8FCD-5C682BB32F1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B211-A35C-4B8E-89C3-15F9F650CE0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87B1-B351-45D4-B378-5B5B77990AB3}" type="slidenum">
              <a:rPr b="1" lang="en-US" sz="1400" spc="-1" strike="noStrike">
                <a:solidFill>
                  <a:srgbClr val="4e3b30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84A2-53F7-4A2F-B061-954BB5A9C76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755E-9E4B-4245-B6E6-AEAB19B516A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9360">
            <a:solidFill>
              <a:srgbClr val="7c4b3b"/>
            </a:solidFill>
            <a:miter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c4c2c"/>
                </a:solidFill>
                <a:latin typeface="Tempus Sans ITC"/>
              </a:rPr>
              <a:t>    </a:t>
            </a:r>
            <a:r>
              <a:rPr b="1" lang="en-US" sz="3600" spc="-1" strike="noStrike">
                <a:solidFill>
                  <a:srgbClr val="6c4c2c"/>
                </a:solidFill>
                <a:latin typeface="Tempus Sans ITC"/>
              </a:rPr>
              <a:t>Ninu Teodora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1" name="Rectangle 3" descr=""/>
          <p:cNvPicPr/>
          <p:nvPr/>
        </p:nvPicPr>
        <p:blipFill>
          <a:blip r:embed="rId1"/>
          <a:stretch/>
        </p:blipFill>
        <p:spPr>
          <a:xfrm>
            <a:off x="-311040" y="262080"/>
            <a:ext cx="9156600" cy="3736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http://www.google.ro/url?source=imglanding&amp;ct=img&amp;q=http://www.cerceteaza.com/wp-content/uploads/2010/08/Primul-bec-electric.jpg&amp;sa=X&amp;ei=FGSmT-WCLZOi8gSpwNTNAw&amp;ved=0CAoQ8wc&amp;usg=AFQjCNFG-o2DLkd0Ma3dyXfV68So495miA"/>
          <p:cNvPicPr/>
          <p:nvPr/>
        </p:nvPicPr>
        <p:blipFill>
          <a:blip r:embed="rId2"/>
          <a:stretch/>
        </p:blipFill>
        <p:spPr>
          <a:xfrm>
            <a:off x="-55440" y="3090960"/>
            <a:ext cx="3139920" cy="2743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http://www.google.ro/url?source=imglanding&amp;ct=img&amp;q=http://www.ghimpele.ro/wp-content/uploads/2012/05/vaccin-antirabic-ghimpele-630x418.jpg&amp;sa=X&amp;ei=ZmSmT6_MLYf68gTo7pHPAw&amp;ved=0CAkQ8wc&amp;usg=AFQjCNHXWHu04DEg8DETI1RykhnnMZrCBg"/>
          <p:cNvPicPr/>
          <p:nvPr/>
        </p:nvPicPr>
        <p:blipFill>
          <a:blip r:embed="rId3"/>
          <a:stretch/>
        </p:blipFill>
        <p:spPr>
          <a:xfrm>
            <a:off x="5784840" y="3425760"/>
            <a:ext cx="2975040" cy="2384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www.google.ro/url?source=imglanding&amp;ct=img&amp;q=http://www.christianlouboutinshoeonline.com/images/36shoes1/clsandals28.jpg&amp;sa=X&amp;ei=HWWmT_moNYP69QT4-fDZAw&amp;ved=0CAoQ8wc&amp;usg=AFQjCNEVR6NUpwaSDgWGtVSOZPTYnBKt4Q"/>
          <p:cNvPicPr/>
          <p:nvPr/>
        </p:nvPicPr>
        <p:blipFill>
          <a:blip r:embed="rId4"/>
          <a:stretch/>
        </p:blipFill>
        <p:spPr>
          <a:xfrm>
            <a:off x="6669000" y="55440"/>
            <a:ext cx="251784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-55440" y="-23760"/>
            <a:ext cx="925488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495680" y="15235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7" name="Picture 2" descr="http://www.google.ro/url?source=imglanding&amp;ct=img&amp;q=http://www.my-lampes.com/blog-lampe/wp-content/uploads/2012/04/thomas-edison-lampe-incandescence.jpg&amp;sa=X&amp;ei=63SmT_6GLYqs8ASz7OCgAw&amp;ved=0CAkQ8wc4EQ&amp;usg=AFQjCNEOvn6cqK9TDiE1hYbLEsFYPJmhFw"/>
          <p:cNvPicPr/>
          <p:nvPr/>
        </p:nvPicPr>
        <p:blipFill>
          <a:blip r:embed="rId2"/>
          <a:stretch/>
        </p:blipFill>
        <p:spPr>
          <a:xfrm>
            <a:off x="0" y="1523880"/>
            <a:ext cx="4533840" cy="266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58" name="Picture 4" descr="http://www.google.ro/url?source=imglanding&amp;ct=img&amp;q=http://www.larousse.fr/encyclopedie/data/images/1002844-Thomas_Edison.jpg&amp;sa=X&amp;ei=LHWmT9wXhbb1BMyUuMID&amp;ved=0CAkQ8wc&amp;usg=AFQjCNHFAPCYgzu7rDn-0an6zCbPQWF_WQ"/>
          <p:cNvPicPr/>
          <p:nvPr/>
        </p:nvPicPr>
        <p:blipFill>
          <a:blip r:embed="rId3"/>
          <a:stretch/>
        </p:blipFill>
        <p:spPr>
          <a:xfrm>
            <a:off x="0" y="3962520"/>
            <a:ext cx="4495680" cy="2895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59" name="TextBox 5"/>
          <p:cNvSpPr/>
          <p:nvPr/>
        </p:nvSpPr>
        <p:spPr>
          <a:xfrm>
            <a:off x="4952880" y="1523880"/>
            <a:ext cx="3733920" cy="5214600"/>
          </a:xfrm>
          <a:prstGeom prst="rect">
            <a:avLst/>
          </a:prstGeom>
          <a:solidFill>
            <a:srgbClr val="e3cabd"/>
          </a:solidFill>
          <a:ln w="10080">
            <a:solidFill>
              <a:srgbClr val="c1752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    </a:t>
            </a: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Le 22 Octobre 1879, un inventeur  américain  qui s’appele Thomas Edi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 </a:t>
            </a: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a decouvert l'éclairage électrique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    La première lampe à incandescence dure pendant quarante heures et  cette lampe represente le fin de l’éclairage avec l’huile ou avec le g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e3cabd"/>
          </a:solidFill>
          <a:ln w="10080">
            <a:solidFill>
              <a:srgbClr val="c1752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3b14"/>
                </a:solidFill>
                <a:latin typeface="Kristen ITC"/>
              </a:rPr>
              <a:t>Le vaccin antirabique</a:t>
            </a:r>
            <a:endParaRPr b="0" lang="en-US" sz="40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a5644e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cd5"/>
                </a:solidFill>
                <a:latin typeface="Century"/>
              </a:rPr>
              <a:t>    </a:t>
            </a:r>
            <a:r>
              <a:rPr b="1" lang="en-US" sz="2800" spc="-1" strike="noStrike">
                <a:solidFill>
                  <a:srgbClr val="fcecd5"/>
                </a:solidFill>
                <a:latin typeface="Century"/>
              </a:rPr>
              <a:t>Louis </a:t>
            </a: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Pasteur commence ses recherches sur la rage en 1880. Il a fait la première tentative chez un enfant mordu par un chien enragé. Le 6 Juin 1885, début de la première série d'injections et, trois mois plus tard, l'enfant est sauvé. 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     </a:t>
            </a: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Académie de Sciences de la France a décidé de créer une institution pour le traitement de la rage, qui s’appelé l'Institut Pasteur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fr-FR" sz="27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t3.gstatic.com/images?q=tbn:ANd9GcQARbNRm6iU4T2CX5JFCtHcRcKv7yEEv1aybPAOcgpKp_PYE9Kai-DFiPY0SQ"/>
          <p:cNvPicPr/>
          <p:nvPr/>
        </p:nvPicPr>
        <p:blipFill>
          <a:blip r:embed="rId1"/>
          <a:stretch/>
        </p:blipFill>
        <p:spPr>
          <a:xfrm>
            <a:off x="-19080" y="1706400"/>
            <a:ext cx="4226040" cy="9747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http://www.google.ro/url?source=imglanding&amp;ct=img&amp;q=http://1.bp.blogspot.com/_eg4RyNmPMYM/TDHmORlMNpI/AAAAAAAAIbs/PCRiyEJ5nXI/s400/Louis+Pasteur.jpg&amp;sa=X&amp;ei=CIemT4__CYqi8QSe8qW2Ag&amp;ved=0CAkQ8wc&amp;usg=AFQjCNEn6sxaOPUOfAI9ZMX9Gpm5wmKbMQ"/>
          <p:cNvPicPr/>
          <p:nvPr/>
        </p:nvPicPr>
        <p:blipFill>
          <a:blip r:embed="rId2"/>
          <a:stretch/>
        </p:blipFill>
        <p:spPr>
          <a:xfrm>
            <a:off x="4224240" y="12600"/>
            <a:ext cx="4926240" cy="10606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a5644e"/>
          </a:solidFill>
          <a:ln w="19080">
            <a:solidFill>
              <a:srgbClr val="784737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cecd5"/>
                </a:solidFill>
                <a:latin typeface="Kristen ITC"/>
              </a:rPr>
              <a:t>Les Talons Aiguilles</a:t>
            </a:r>
            <a:br>
              <a:rPr sz="4000"/>
            </a:br>
            <a:endParaRPr b="0" lang="en-US" sz="40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f8d7be"/>
          </a:solidFill>
          <a:ln w="10080">
            <a:solidFill>
              <a:srgbClr val="f0a22e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23227"/>
                </a:solidFill>
                <a:latin typeface="Century"/>
              </a:rPr>
              <a:t>Les découverts dans les tombes égyptiennes datant de 4000 av J.-C. Mais, les femmes ont dû attendre jusqu'en 1950 et l'invention d'une fine tige métallique que Salvatore Ferragamo a nommé le Stiletto. Le mot vient du grec "stylos" ou "pilier".</a:t>
            </a:r>
            <a:br>
              <a:rPr sz="2900"/>
            </a:br>
            <a:r>
              <a:rPr b="0" lang="fr-FR" sz="2900" spc="-1" strike="noStrike">
                <a:solidFill>
                  <a:srgbClr val="523227"/>
                </a:solidFill>
                <a:latin typeface="Century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ttp://www.stilfeminin.ro/images/stories/imaginiarticole/modasifrumusete/istoriapantofului/l.jpg"/>
          <p:cNvPicPr/>
          <p:nvPr/>
        </p:nvPicPr>
        <p:blipFill>
          <a:blip r:embed="rId1"/>
          <a:stretch/>
        </p:blipFill>
        <p:spPr>
          <a:xfrm>
            <a:off x="533520" y="457200"/>
            <a:ext cx="7896240" cy="599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http://www.google.ro/url?source=imglanding&amp;ct=img&amp;q=http://www.romaniaturistica.ro/imagini_articole/indicator_directie.jpg&amp;sa=X&amp;ei=h7SmT4fRF4-w8AT1t_juBQ&amp;ved=0CAoQ8wc&amp;usg=AFQjCNG8EsHiDDM3fRuu2eCLbdZ5qdLmjQ"/>
          <p:cNvPicPr/>
          <p:nvPr/>
        </p:nvPicPr>
        <p:blipFill>
          <a:blip r:embed="rId2"/>
          <a:stretch/>
        </p:blipFill>
        <p:spPr>
          <a:xfrm>
            <a:off x="1905120" y="13716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http://www.google.ro/url?source=imglanding&amp;ct=img&amp;q=http://1.bp.blogspot.com/-SNIBWUOXPlE/Td53D9NMoPI/AAAAAAAAAIA/q4iFEJQiW1k/s1600/marilyn.jpg&amp;sa=X&amp;ei=hLWmT8qrF4a08ATbjN2eAw&amp;ved=0CAkQ8wc4JQ&amp;usg=AFQjCNFOkdTkE-sHR8fn-qvGAddPlbsUiw"/>
          <p:cNvPicPr/>
          <p:nvPr/>
        </p:nvPicPr>
        <p:blipFill>
          <a:blip r:embed="rId3"/>
          <a:stretch/>
        </p:blipFill>
        <p:spPr>
          <a:xfrm>
            <a:off x="762120" y="457200"/>
            <a:ext cx="7543800" cy="6156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http://www.google.ro/url?source=imglanding&amp;ct=img&amp;q=http://www.romaniaturistica.ro/imagini_articole/indicator_directie.jpg&amp;sa=X&amp;ei=h7SmT4fRF4-w8AT1t_juBQ&amp;ved=0CAoQ8wc&amp;usg=AFQjCNG8EsHiDDM3fRuu2eCLbdZ5qdLmjQ"/>
          <p:cNvPicPr/>
          <p:nvPr/>
        </p:nvPicPr>
        <p:blipFill>
          <a:blip r:embed="rId4"/>
          <a:stretch/>
        </p:blipFill>
        <p:spPr>
          <a:xfrm>
            <a:off x="1905120" y="1295280"/>
            <a:ext cx="5105160" cy="5105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http://www.google.ro/url?source=imglanding&amp;ct=img&amp;q=http://www.christianlouboutinsale--outlet.com/images/Christian%20Louboutin%20Sandals/CL010049_03.jpg&amp;sa=X&amp;ei=Q7amT5DaKIqs9AT01r3kAw&amp;ved=0CAkQ8wc4qAE&amp;usg=AFQjCNEtMsp8pP7M-R3Be8k8hAmW6GL_yg"/>
          <p:cNvPicPr/>
          <p:nvPr/>
        </p:nvPicPr>
        <p:blipFill>
          <a:blip r:embed="rId5"/>
          <a:stretch/>
        </p:blipFill>
        <p:spPr>
          <a:xfrm>
            <a:off x="1523880" y="6094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OME</cp:lastModifiedBy>
  <dcterms:modified xsi:type="dcterms:W3CDTF">2012-06-02T05:53:07Z</dcterms:modified>
  <cp:revision>206</cp:revision>
  <dc:subject/>
  <dc:title>Slide 1</dc:title>
</cp:coreProperties>
</file>