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FA3D-AA7C-4158-9F4A-B0BF884B4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F959-86FB-400F-9CFD-9DB86D396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26AA-BCE9-49C3-81A6-981122C51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661D-4D33-4C92-975B-48CF54ADF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3DD7-9A44-44F2-8292-7BA2F438B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C8DD-F2E3-4B63-BF6C-A3A36E3C4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6526-F4E0-4BD6-8263-A02AC029C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45AB-90FD-41ED-A67D-3A4A914EE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AEB4-FB83-4840-9F1E-BBC86F50C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86D3-93F8-44A9-B7C3-C6A92BC41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C367-B6CC-4B3E-B8A0-2D68085D3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AF21-ACCA-4B2A-96D5-1E32A7B47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DEC1C-DC43-4754-9098-5127A06F43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Title 1"/>
          <p:cNvGrpSpPr/>
          <p:nvPr/>
        </p:nvGrpSpPr>
        <p:grpSpPr>
          <a:xfrm>
            <a:off x="5175360" y="-6480"/>
            <a:ext cx="3975120" cy="3213360"/>
            <a:chOff x="5175360" y="-6480"/>
            <a:chExt cx="3975120" cy="3213360"/>
          </a:xfrm>
        </p:grpSpPr>
        <p:pic>
          <p:nvPicPr>
            <p:cNvPr id="42" name="Title 1" descr=""/>
            <p:cNvPicPr/>
            <p:nvPr/>
          </p:nvPicPr>
          <p:blipFill>
            <a:blip r:embed="rId1"/>
            <a:stretch/>
          </p:blipFill>
          <p:spPr>
            <a:xfrm>
              <a:off x="5175360" y="-6480"/>
              <a:ext cx="3975120" cy="321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5181480" y="0"/>
              <a:ext cx="3962520" cy="320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4300" spc="-1" strike="noStrike">
                  <a:solidFill>
                    <a:srgbClr val="018d86"/>
                  </a:solidFill>
                  <a:latin typeface="Bauhaus 93"/>
                </a:rPr>
                <a:t> </a:t>
              </a:r>
              <a:r>
                <a:rPr b="1" lang="fr-FR" sz="4400" spc="-1" strike="noStrike">
                  <a:solidFill>
                    <a:srgbClr val="018d86"/>
                  </a:solidFill>
                  <a:latin typeface="Bauhaus 93"/>
                </a:rPr>
                <a:t>NOTRE VISION  </a:t>
              </a:r>
              <a:br>
                <a:rPr sz="4300"/>
              </a:br>
              <a:r>
                <a:rPr b="1" lang="fr-FR" sz="4300" spc="-1" strike="noStrike">
                  <a:solidFill>
                    <a:srgbClr val="018d86"/>
                  </a:solidFill>
                  <a:latin typeface="Bauhaus 93"/>
                </a:rPr>
                <a:t>-</a:t>
              </a:r>
              <a:r>
                <a:rPr b="1" lang="fr-FR" sz="4300" spc="-1" strike="noStrike">
                  <a:solidFill>
                    <a:srgbClr val="086e5d"/>
                  </a:solidFill>
                  <a:latin typeface="Bauhaus 93"/>
                </a:rPr>
                <a:t>UNE-</a:t>
              </a:r>
              <a:br>
                <a:rPr sz="4300"/>
              </a:br>
              <a:r>
                <a:rPr b="1" lang="fr-FR" sz="3600" spc="-1" strike="noStrike">
                  <a:solidFill>
                    <a:srgbClr val="086e5d"/>
                  </a:solidFill>
                  <a:latin typeface="Elephant"/>
                </a:rPr>
                <a:t>DECOUVEREPRECTIQUE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4" name="Picture 2" descr="http://www.google.ro/url?source=imglanding&amp;ct=img&amp;q=http://pyramidsport.com/wp-content/uploads/vpccl-raihan-wk1-11.jpg&amp;sa=X&amp;ei=7yFeT7PjG4ev0QW37ZHrDQ&amp;ved=0CAwQ8wc4Hw&amp;usg=AFQjCNEb8Mov1VzjrakLuDCkGD9KGcoN6Q"/>
          <p:cNvPicPr/>
          <p:nvPr/>
        </p:nvPicPr>
        <p:blipFill>
          <a:blip r:embed="rId2"/>
          <a:stretch/>
        </p:blipFill>
        <p:spPr>
          <a:xfrm>
            <a:off x="-152280" y="-122400"/>
            <a:ext cx="5675040" cy="3408480"/>
          </a:xfrm>
          <a:prstGeom prst="rect">
            <a:avLst/>
          </a:prstGeom>
          <a:ln w="0">
            <a:noFill/>
          </a:ln>
        </p:spPr>
      </p:pic>
      <p:pic>
        <p:nvPicPr>
          <p:cNvPr id="45" name="Rectangle 6" descr=""/>
          <p:cNvPicPr/>
          <p:nvPr/>
        </p:nvPicPr>
        <p:blipFill>
          <a:blip r:embed="rId3"/>
          <a:stretch/>
        </p:blipFill>
        <p:spPr>
          <a:xfrm>
            <a:off x="-396720" y="2932200"/>
            <a:ext cx="3859200" cy="1152360"/>
          </a:xfrm>
          <a:prstGeom prst="rect">
            <a:avLst/>
          </a:prstGeom>
          <a:ln w="0">
            <a:noFill/>
          </a:ln>
        </p:spPr>
      </p:pic>
      <p:sp>
        <p:nvSpPr>
          <p:cNvPr id="46" name="TextBox 7"/>
          <p:cNvSpPr/>
          <p:nvPr/>
        </p:nvSpPr>
        <p:spPr>
          <a:xfrm>
            <a:off x="3124080" y="3200400"/>
            <a:ext cx="6019920" cy="372240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La semaine dernière  dans notre  classe  nous avons  eu  au sport  une leçon interesante de criquet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1" lang="fr-FR" sz="2000" spc="-1" strike="noStrike">
                <a:solidFill>
                  <a:srgbClr val="ffffff"/>
                </a:solidFill>
                <a:latin typeface="Century Gothic"/>
              </a:rPr>
              <a:t>Deux  entraîneurs  britanniques  nous  ont  appris   les  regles  du jeu puis a  commencé  la  formation  d</a:t>
            </a: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‘</a:t>
            </a:r>
            <a:r>
              <a:rPr b="1" lang="fr-FR" sz="2000" spc="-1" strike="noStrike">
                <a:solidFill>
                  <a:srgbClr val="ffffff"/>
                </a:solidFill>
                <a:latin typeface="Century Gothic"/>
              </a:rPr>
              <a:t>équip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entury Gothic"/>
              </a:rPr>
              <a:t>    </a:t>
            </a:r>
            <a:r>
              <a:rPr b="1" lang="fr-FR" sz="2000" spc="-1" strike="noStrike">
                <a:solidFill>
                  <a:srgbClr val="ffffff"/>
                </a:solidFill>
                <a:latin typeface="Century Gothic"/>
              </a:rPr>
              <a:t>Nous  avons  attendu avec impatience les explications de l</a:t>
            </a: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’ entra</a:t>
            </a:r>
            <a:r>
              <a:rPr b="1" lang="fr-FR" sz="2000" spc="-1" strike="noStrike">
                <a:solidFill>
                  <a:srgbClr val="ffffff"/>
                </a:solidFill>
                <a:latin typeface="Century Gothic"/>
              </a:rPr>
              <a:t>îneur  et  à  la fin  du temps  nous avons  eu  un  match entre deux  équip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1" lang="fr-FR" sz="2000" spc="-1" strike="noStrike">
                <a:solidFill>
                  <a:srgbClr val="ffffff"/>
                </a:solidFill>
                <a:latin typeface="Century Gothic"/>
              </a:rPr>
              <a:t>Cela a  depassé  toute espérance  !</a:t>
            </a:r>
            <a:r>
              <a:rPr b="1" lang="fr-FR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8"/>
          <p:cNvSpPr/>
          <p:nvPr/>
        </p:nvSpPr>
        <p:spPr>
          <a:xfrm>
            <a:off x="0" y="3962520"/>
            <a:ext cx="3124080" cy="28076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  <a:ea typeface="Arial"/>
              </a:rPr>
              <a:t>I)Une decouverte practique... pg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  <a:ea typeface="Arial"/>
              </a:rPr>
              <a:t>II)L’ecologie… pg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  <a:ea typeface="Arial"/>
              </a:rPr>
              <a:t>III)Test… pg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elev</dc:creator>
  <dc:description/>
  <dc:language>en-US</dc:language>
  <cp:lastModifiedBy>user</cp:lastModifiedBy>
  <dcterms:modified xsi:type="dcterms:W3CDTF">2012-03-13T07:17:17Z</dcterms:modified>
  <cp:revision>196</cp:revision>
  <dc:subject/>
  <dc:title>Slide 1</dc:title>
</cp:coreProperties>
</file>