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E9B-338A-41F5-BEAF-2FFABFDF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7A2-94CF-460E-A776-B29572E3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5B9-E464-4EDC-8A0B-6C32B856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CC0-0FE2-412F-BEE7-33E77328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AB3-AC14-4DAD-9E61-53F857F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F93-F314-4A11-B57C-DCB0010F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B50-C9CE-4D0F-BB5B-089A3B9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B38-BCD5-4479-9D1C-D5D874D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A6F-5423-4512-BCFF-923898EB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8B3-AAFE-4CBD-8A87-8231698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0CC-E36A-4892-BD23-7E6FB38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D0E-D468-40EF-83B1-DB62878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D7C-A892-4D50-935C-13CFCC152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5175360" y="-6480"/>
            <a:ext cx="3975120" cy="3213360"/>
            <a:chOff x="5175360" y="-6480"/>
            <a:chExt cx="3975120" cy="321336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5175360" y="-6480"/>
              <a:ext cx="3975120" cy="32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81480" y="0"/>
              <a:ext cx="3962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 </a:t>
              </a:r>
              <a:r>
                <a:rPr b="1" lang="fr-FR" sz="4400" spc="-1" strike="noStrike">
                  <a:solidFill>
                    <a:srgbClr val="018d86"/>
                  </a:solidFill>
                  <a:latin typeface="Bauhaus 93"/>
                </a:rPr>
                <a:t>NOTRE VISION  </a:t>
              </a:r>
              <a:br>
                <a:rPr sz="4300"/>
              </a:b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-</a:t>
              </a:r>
              <a:r>
                <a:rPr b="1" lang="fr-FR" sz="4300" spc="-1" strike="noStrike">
                  <a:solidFill>
                    <a:srgbClr val="086e5d"/>
                  </a:solidFill>
                  <a:latin typeface="Bauhaus 93"/>
                </a:rPr>
                <a:t>UNE-</a:t>
              </a:r>
              <a:br>
                <a:rPr sz="4300"/>
              </a:br>
              <a:r>
                <a:rPr b="1" lang="fr-FR" sz="3600" spc="-1" strike="noStrike">
                  <a:solidFill>
                    <a:srgbClr val="086e5d"/>
                  </a:solidFill>
                  <a:latin typeface="Elephant"/>
                </a:rPr>
                <a:t>DECOUVEREPREC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ttp://www.google.ro/url?source=imglanding&amp;ct=img&amp;q=http://pyramidsport.com/wp-content/uploads/vpccl-raihan-wk1-11.jpg&amp;sa=X&amp;ei=7yFeT7PjG4ev0QW37ZHrDQ&amp;ved=0CAwQ8wc4Hw&amp;usg=AFQjCNEb8Mov1VzjrakLuDCkGD9KGcoN6Q"/>
          <p:cNvPicPr/>
          <p:nvPr/>
        </p:nvPicPr>
        <p:blipFill>
          <a:blip r:embed="rId2"/>
          <a:stretch/>
        </p:blipFill>
        <p:spPr>
          <a:xfrm>
            <a:off x="-152280" y="-122400"/>
            <a:ext cx="567504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3"/>
          <a:stretch/>
        </p:blipFill>
        <p:spPr>
          <a:xfrm>
            <a:off x="-396720" y="2932200"/>
            <a:ext cx="3859200" cy="1152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3124080" y="3200400"/>
            <a:ext cx="6019920" cy="37224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 semaine dernière  dans notre  classe  nous avons  eu  au sport  une leçon interesante de criqu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Deux  entraîneurs  britanniques  nous  ont  appris   les  regles  du jeu puis a  commencé  la  formation  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Nous  avons  attendu avec impatience les explications de l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’ entra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îneur  et  à  la fin  du temps  nous avons  eu  un  match entre deux  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Cela a  depassé  toute espérance  !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3962520"/>
            <a:ext cx="3124080" cy="280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)Une decouverte practique... p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)L’ecologie… p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I)Test… p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lev</dc:creator>
  <dc:description/>
  <dc:language>en-US</dc:language>
  <cp:lastModifiedBy>user</cp:lastModifiedBy>
  <dcterms:modified xsi:type="dcterms:W3CDTF">2012-03-13T07:17:17Z</dcterms:modified>
  <cp:revision>196</cp:revision>
  <dc:subject/>
  <dc:title>Slide 1</dc:title>
</cp:coreProperties>
</file>