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6609-8478-4A64-BCDE-3ACB2FD9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CAA0-EC50-4DF8-B405-A38711E3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06EB-ECD0-44F3-8089-C349E0EE1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D772-2C97-41F2-A85C-1CB0A2FC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41F0-9EBD-4F7F-955F-771D7B62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A5D1-4D67-4A7F-B62B-3E8865F3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402F-9187-4E41-9262-788801AF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09BD-1A3F-4DD4-90AA-4C70DFD3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B13F-721E-4251-B24B-C27ECD23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6D58-81B2-4F6C-B00A-DB65EB64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184C-9BC5-4D7A-A038-98105481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F4FC-A0C3-4E40-8496-06FE8811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1F20-1859-46C3-ABA6-B68F16E4B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Title 1"/>
          <p:cNvGrpSpPr/>
          <p:nvPr/>
        </p:nvGrpSpPr>
        <p:grpSpPr>
          <a:xfrm>
            <a:off x="5175360" y="-6480"/>
            <a:ext cx="3975120" cy="3213360"/>
            <a:chOff x="5175360" y="-6480"/>
            <a:chExt cx="3975120" cy="3213360"/>
          </a:xfrm>
        </p:grpSpPr>
        <p:pic>
          <p:nvPicPr>
            <p:cNvPr id="42" name="Title 1" descr=""/>
            <p:cNvPicPr/>
            <p:nvPr/>
          </p:nvPicPr>
          <p:blipFill>
            <a:blip r:embed="rId1"/>
            <a:stretch/>
          </p:blipFill>
          <p:spPr>
            <a:xfrm>
              <a:off x="5175360" y="-6480"/>
              <a:ext cx="3975120" cy="321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181480" y="0"/>
              <a:ext cx="3962520" cy="32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300" spc="-1" strike="noStrike">
                  <a:solidFill>
                    <a:srgbClr val="018d86"/>
                  </a:solidFill>
                  <a:latin typeface="Bauhaus 93"/>
                </a:rPr>
                <a:t> </a:t>
              </a:r>
              <a:r>
                <a:rPr b="1" lang="fr-FR" sz="4400" spc="-1" strike="noStrike">
                  <a:solidFill>
                    <a:srgbClr val="018d86"/>
                  </a:solidFill>
                  <a:latin typeface="Bauhaus 93"/>
                </a:rPr>
                <a:t>NOTRE VISION  </a:t>
              </a:r>
              <a:br>
                <a:rPr sz="4300"/>
              </a:br>
              <a:r>
                <a:rPr b="1" lang="fr-FR" sz="4300" spc="-1" strike="noStrike">
                  <a:solidFill>
                    <a:srgbClr val="018d86"/>
                  </a:solidFill>
                  <a:latin typeface="Bauhaus 93"/>
                </a:rPr>
                <a:t>-</a:t>
              </a:r>
              <a:r>
                <a:rPr b="1" lang="fr-FR" sz="4300" spc="-1" strike="noStrike">
                  <a:solidFill>
                    <a:srgbClr val="086e5d"/>
                  </a:solidFill>
                  <a:latin typeface="Bauhaus 93"/>
                </a:rPr>
                <a:t>UNE-</a:t>
              </a:r>
              <a:br>
                <a:rPr sz="4300"/>
              </a:br>
              <a:r>
                <a:rPr b="1" lang="fr-FR" sz="3600" spc="-1" strike="noStrike">
                  <a:solidFill>
                    <a:srgbClr val="086e5d"/>
                  </a:solidFill>
                  <a:latin typeface="Elephant"/>
                </a:rPr>
                <a:t>DECOUVEREPRECTIQU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" name="Picture 2" descr="http://www.google.ro/url?source=imglanding&amp;ct=img&amp;q=http://pyramidsport.com/wp-content/uploads/vpccl-raihan-wk1-11.jpg&amp;sa=X&amp;ei=7yFeT7PjG4ev0QW37ZHrDQ&amp;ved=0CAwQ8wc4Hw&amp;usg=AFQjCNEb8Mov1VzjrakLuDCkGD9KGcoN6Q"/>
          <p:cNvPicPr/>
          <p:nvPr/>
        </p:nvPicPr>
        <p:blipFill>
          <a:blip r:embed="rId2"/>
          <a:stretch/>
        </p:blipFill>
        <p:spPr>
          <a:xfrm>
            <a:off x="-152280" y="-122400"/>
            <a:ext cx="5675040" cy="340848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6" descr=""/>
          <p:cNvPicPr/>
          <p:nvPr/>
        </p:nvPicPr>
        <p:blipFill>
          <a:blip r:embed="rId3"/>
          <a:stretch/>
        </p:blipFill>
        <p:spPr>
          <a:xfrm>
            <a:off x="-396720" y="2932200"/>
            <a:ext cx="3859200" cy="1152360"/>
          </a:xfrm>
          <a:prstGeom prst="rect">
            <a:avLst/>
          </a:prstGeom>
          <a:ln w="0">
            <a:noFill/>
          </a:ln>
        </p:spPr>
      </p:pic>
      <p:sp>
        <p:nvSpPr>
          <p:cNvPr id="46" name="TextBox 7"/>
          <p:cNvSpPr/>
          <p:nvPr/>
        </p:nvSpPr>
        <p:spPr>
          <a:xfrm>
            <a:off x="3124080" y="3200400"/>
            <a:ext cx="6019920" cy="372240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La semaine dernière  dans notre  classe  nous avons  eu  au sport  une leçon interesante de criquet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Deux  entraîneurs  britanniques  nous  ont  appris   les  regles  du jeu puis a  commencé  la  formation  d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‘</a:t>
            </a: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équi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Nous  avons  attendu avec impatience les explications de l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’ entra</a:t>
            </a: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îneur  et  à  la fin  du temps  nous avons  eu  un  match entre deux  équi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Cela a  depassé  toute espérance  !</a:t>
            </a: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0" y="3962520"/>
            <a:ext cx="3124080" cy="280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I)Une decouverte practique... pg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II)L’ecologie… pg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III)Test… pg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elev</dc:creator>
  <dc:description/>
  <dc:language>en-US</dc:language>
  <cp:lastModifiedBy>user</cp:lastModifiedBy>
  <dcterms:modified xsi:type="dcterms:W3CDTF">2012-03-13T07:17:17Z</dcterms:modified>
  <cp:revision>196</cp:revision>
  <dc:subject/>
  <dc:title>Slide 1</dc:title>
</cp:coreProperties>
</file>